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12024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B58406A-4CFB-49F0-82C4-4194D5573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hould I just make k=1 for clar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ave bullet about why this means adversary learns nothing… which will be formalized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bull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ery good if delta is extremely small (as in cryp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 good enough if delta is “noticeable”, say 1/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verball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 of the schemes that we know have noticeable delta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slide with picture of various close distribu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nsert slide with picture of various close distribu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ever mention predica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we will follow La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ussian requires much mor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o a lot with SuL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we will follow La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ussian requires much mor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o a lot with SuL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less trivial example? Or just say we’ll see other oexamples so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less trivial example? Or just say we’ll see other examples so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less trivial example? Or just say we’ll see other examples so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less trivial example? Or just say we’ll see other examples so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ybe say a few words about individuals’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 that this also captures non-interactiv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bull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ery good if delta is extremely small (as in cryp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 good enough if delta is “noticeable”, say 1/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verball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 of the schemes that we know have noticeable delta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 reference to GM84 and CRYPTO style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ell established notions; source of in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ay of thinking about definitions that has proven to be very useful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bserving a similar phenomenon as in en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414-D8AA-4BDF-9F80-0A734CC7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4D9-955F-41F4-B03D-212C485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D8A-B60A-4EBA-8998-86B60628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E11-5BD3-4CA5-B31D-5C17AADB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3C5-FB8B-40B5-A68E-422821BB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399-EE4E-4E2A-9521-DBA1170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C8C-6BF5-42D3-8E7E-C0AA342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E3D-B92C-42D3-8E4A-9A33950C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866-3DD0-4550-AA97-5CB8DCB9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F74-9FC0-4315-B068-1232A7B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72A-9DE2-4D29-A7D8-CE313C20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08D-A41D-447A-BA58-6E8D885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5530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EE5C-3315-40B5-BBA9-1B12D9BF4DC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Privacy, Sensitivity and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he “K” Framework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358128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ynthia D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ank McSh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Kobbi Nis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dam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5812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-Gurion Un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zmann Institute of Sc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632-D7FD-4FD7-A9AA-7BE135A306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724280" y="1143000"/>
            <a:ext cx="533520" cy="533520"/>
          </a:xfrm>
          <a:prstGeom prst="cloudCallout">
            <a:avLst>
              <a:gd name="adj1" fmla="val -77976"/>
              <a:gd name="adj2" fmla="val 5893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Formalizing Indistinguishabilit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2895480"/>
            <a:ext cx="8686800" cy="22860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(k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distinguish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,   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which differ i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rows,  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cripts 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1673280"/>
            <a:ext cx="731880" cy="7650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23623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dversa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362320"/>
            <a:ext cx="172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219320" y="1981080"/>
            <a:ext cx="172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17480" y="15238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7480" y="19810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1523880"/>
            <a:ext cx="129528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2362320"/>
            <a:ext cx="172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400800" y="1981080"/>
            <a:ext cx="172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98960" y="15238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9320" y="19810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29400" y="1523880"/>
            <a:ext cx="1295280" cy="1067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4864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valen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617220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82320" y="5683320"/>
            <a:ext cx="28839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Pr(A says “1”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Pr(A says “1”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60320" y="58816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¼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 ±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46036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02120" y="4114800"/>
            <a:ext cx="18172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Pr( 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) = 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Pr( 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') = 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29520" y="431316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 ±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6400" y="1219320"/>
            <a:ext cx="4191120" cy="1904760"/>
          </a:xfrm>
          <a:prstGeom prst="cloudCallout">
            <a:avLst>
              <a:gd name="adj1" fmla="val -49203"/>
              <a:gd name="adj2" fmla="val 105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: Why ratio an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fference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: Stronger 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6E6-A0F1-4FF2-B238-FA94B7AD63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4038480"/>
            <a:ext cx="3962520" cy="1600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Property of Lapl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10666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033800" y="1219320"/>
            <a:ext cx="1139760" cy="1536480"/>
            <a:chOff x="4033800" y="1219320"/>
            <a:chExt cx="1139760" cy="1536480"/>
          </a:xfrm>
        </p:grpSpPr>
        <p:sp>
          <p:nvSpPr>
            <p:cNvPr id="310" name=""/>
            <p:cNvSpPr/>
            <p:nvPr/>
          </p:nvSpPr>
          <p:spPr>
            <a:xfrm>
              <a:off x="4033800" y="245844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3800" y="221040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33800" y="196272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3800" y="171468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33800" y="146700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3800" y="121932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470560" y="1467000"/>
            <a:ext cx="693720" cy="7934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3440" y="188280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3" idx="6"/>
            <a:endCxn id="316" idx="1"/>
          </p:cNvCxnSpPr>
          <p:nvPr/>
        </p:nvCxnSpPr>
        <p:spPr>
          <a:xfrm>
            <a:off x="5173200" y="18633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248080" y="26557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0,1}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57800" y="3429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21149" t="0" r="19587" b="14560"/>
          <a:stretch/>
        </p:blipFill>
        <p:spPr>
          <a:xfrm>
            <a:off x="4495680" y="4200480"/>
            <a:ext cx="4267440" cy="1666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019920" y="6019920"/>
            <a:ext cx="761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f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0"/>
            <a:endCxn id="323" idx="2"/>
          </p:cNvCxnSpPr>
          <p:nvPr/>
        </p:nvCxnSpPr>
        <p:spPr>
          <a:xfrm flipH="1" flipV="1" rot="5400000">
            <a:off x="6438240" y="5828760"/>
            <a:ext cx="153360" cy="22932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 flipH="1">
            <a:off x="6560640" y="1981080"/>
            <a:ext cx="258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258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32360" y="1200240"/>
            <a:ext cx="219564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ease tell 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78200" y="2133720"/>
            <a:ext cx="255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Y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p(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418000" y="3489480"/>
            <a:ext cx="2400480" cy="515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806400" y="4691160"/>
            <a:ext cx="329256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A6C-30C6-469F-9CEB-A8E6235CE2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352680" y="10666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033800" y="1219320"/>
            <a:ext cx="1139760" cy="1536480"/>
            <a:chOff x="4033800" y="1219320"/>
            <a:chExt cx="1139760" cy="1536480"/>
          </a:xfrm>
        </p:grpSpPr>
        <p:sp>
          <p:nvSpPr>
            <p:cNvPr id="334" name=""/>
            <p:cNvSpPr/>
            <p:nvPr/>
          </p:nvSpPr>
          <p:spPr>
            <a:xfrm>
              <a:off x="4033800" y="245844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33800" y="221040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33800" y="196272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3800" y="171468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3800" y="146700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3800" y="121932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470560" y="1467000"/>
            <a:ext cx="693720" cy="7934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560640" y="1981080"/>
            <a:ext cx="258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3440" y="188280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37" idx="6"/>
            <a:endCxn id="340" idx="1"/>
          </p:cNvCxnSpPr>
          <p:nvPr/>
        </p:nvCxnSpPr>
        <p:spPr>
          <a:xfrm>
            <a:off x="5173200" y="18633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5248080" y="26557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70640" y="2459160"/>
            <a:ext cx="19692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18240" y="2459160"/>
            <a:ext cx="19836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2459160"/>
            <a:ext cx="19872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6" idx="0"/>
            <a:endCxn id="340" idx="2"/>
          </p:cNvCxnSpPr>
          <p:nvPr/>
        </p:nvCxnSpPr>
        <p:spPr>
          <a:xfrm flipV="1">
            <a:off x="5817960" y="2260080"/>
            <a:ext cx="108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6553080" y="258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0,1}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indistinguish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differ in 1 b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-f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ranscript 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msbm6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360" y="1200240"/>
            <a:ext cx="219564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ease tell 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8200" y="2133720"/>
            <a:ext cx="255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Y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p(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57800" y="3429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21149" t="0" r="19587" b="14560"/>
          <a:stretch/>
        </p:blipFill>
        <p:spPr>
          <a:xfrm>
            <a:off x="4495680" y="4200480"/>
            <a:ext cx="4267440" cy="1666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rcRect l="19536" t="0" r="19074" b="14095"/>
          <a:stretch/>
        </p:blipFill>
        <p:spPr>
          <a:xfrm>
            <a:off x="4572000" y="4191120"/>
            <a:ext cx="4419720" cy="1676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019920" y="6019920"/>
            <a:ext cx="761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f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9400" y="6195960"/>
            <a:ext cx="1066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f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7" idx="0"/>
            <a:endCxn id="355" idx="2"/>
          </p:cNvCxnSpPr>
          <p:nvPr/>
        </p:nvCxnSpPr>
        <p:spPr>
          <a:xfrm flipH="1" flipV="1" rot="5400000">
            <a:off x="6438240" y="5828760"/>
            <a:ext cx="153360" cy="22932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8" idx="0"/>
            <a:endCxn id="356" idx="2"/>
          </p:cNvCxnSpPr>
          <p:nvPr/>
        </p:nvCxnSpPr>
        <p:spPr>
          <a:xfrm flipV="1" rot="16200000">
            <a:off x="6807600" y="5840280"/>
            <a:ext cx="329040" cy="381960"/>
          </a:xfrm>
          <a:prstGeom prst="curvedConnector5">
            <a:avLst>
              <a:gd name="adj1" fmla="val 49726"/>
              <a:gd name="adj2" fmla="val 50000"/>
              <a:gd name="adj3" fmla="val 49726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5424480" y="3495600"/>
            <a:ext cx="2400480" cy="515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04920" y="4565520"/>
            <a:ext cx="4495680" cy="16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62F-0F86-4B01-9CBF-78F1BF5754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ore “Semantic” Notions?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stinguishability se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work with (e.g. proofs are easy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ly say what A can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intu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 :   adversary should learn “almost nothing” about 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re “semantic” n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using oth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prio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talk of this session: differ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B90-85C4-4339-8D41-EE75686632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00400" y="-76320"/>
            <a:ext cx="6157800" cy="4324320"/>
          </a:xfrm>
          <a:custGeom>
            <a:avLst/>
            <a:gdLst/>
            <a:ahLst/>
            <a:rect l="l" t="t" r="r" b="b"/>
            <a:pathLst>
              <a:path w="3879" h="2724">
                <a:moveTo>
                  <a:pt x="296" y="1784"/>
                </a:moveTo>
                <a:cubicBezTo>
                  <a:pt x="320" y="1960"/>
                  <a:pt x="37" y="2348"/>
                  <a:pt x="158" y="2470"/>
                </a:cubicBezTo>
                <a:cubicBezTo>
                  <a:pt x="279" y="2592"/>
                  <a:pt x="670" y="2478"/>
                  <a:pt x="1022" y="2518"/>
                </a:cubicBezTo>
                <a:cubicBezTo>
                  <a:pt x="1374" y="2558"/>
                  <a:pt x="1934" y="2696"/>
                  <a:pt x="2270" y="2710"/>
                </a:cubicBezTo>
                <a:cubicBezTo>
                  <a:pt x="2606" y="2724"/>
                  <a:pt x="2885" y="2696"/>
                  <a:pt x="3036" y="2602"/>
                </a:cubicBezTo>
                <a:cubicBezTo>
                  <a:pt x="3187" y="2508"/>
                  <a:pt x="3048" y="2280"/>
                  <a:pt x="3176" y="2146"/>
                </a:cubicBezTo>
                <a:cubicBezTo>
                  <a:pt x="3304" y="2012"/>
                  <a:pt x="3733" y="2039"/>
                  <a:pt x="3806" y="1798"/>
                </a:cubicBezTo>
                <a:cubicBezTo>
                  <a:pt x="3879" y="1557"/>
                  <a:pt x="3643" y="951"/>
                  <a:pt x="3614" y="698"/>
                </a:cubicBezTo>
                <a:cubicBezTo>
                  <a:pt x="3585" y="445"/>
                  <a:pt x="3703" y="337"/>
                  <a:pt x="3633" y="280"/>
                </a:cubicBezTo>
                <a:cubicBezTo>
                  <a:pt x="3563" y="223"/>
                  <a:pt x="3436" y="388"/>
                  <a:pt x="3196" y="355"/>
                </a:cubicBezTo>
                <a:cubicBezTo>
                  <a:pt x="2956" y="322"/>
                  <a:pt x="2513" y="107"/>
                  <a:pt x="2191" y="84"/>
                </a:cubicBezTo>
                <a:cubicBezTo>
                  <a:pt x="1869" y="61"/>
                  <a:pt x="1541" y="223"/>
                  <a:pt x="1262" y="214"/>
                </a:cubicBezTo>
                <a:cubicBezTo>
                  <a:pt x="983" y="205"/>
                  <a:pt x="689" y="0"/>
                  <a:pt x="519" y="28"/>
                </a:cubicBezTo>
                <a:cubicBezTo>
                  <a:pt x="349" y="56"/>
                  <a:pt x="291" y="231"/>
                  <a:pt x="240" y="381"/>
                </a:cubicBezTo>
                <a:cubicBezTo>
                  <a:pt x="189" y="531"/>
                  <a:pt x="250" y="757"/>
                  <a:pt x="212" y="929"/>
                </a:cubicBezTo>
                <a:cubicBezTo>
                  <a:pt x="174" y="1101"/>
                  <a:pt x="0" y="1272"/>
                  <a:pt x="14" y="1414"/>
                </a:cubicBezTo>
                <a:cubicBezTo>
                  <a:pt x="28" y="1556"/>
                  <a:pt x="272" y="1608"/>
                  <a:pt x="296" y="1784"/>
                </a:cubicBez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168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imulata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stinguish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-k row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ke) tra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ticular: for 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simulate transcript without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ary learns no mor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from learning others’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056120" y="263520"/>
            <a:ext cx="1139760" cy="1536480"/>
            <a:chOff x="4056120" y="263520"/>
            <a:chExt cx="1139760" cy="1536480"/>
          </a:xfrm>
        </p:grpSpPr>
        <p:sp>
          <p:nvSpPr>
            <p:cNvPr id="369" name=""/>
            <p:cNvSpPr/>
            <p:nvPr/>
          </p:nvSpPr>
          <p:spPr>
            <a:xfrm>
              <a:off x="4056120" y="150264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56120" y="125496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56120" y="100728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56120" y="75888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56120" y="51120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56120" y="26352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492880" y="511200"/>
            <a:ext cx="693720" cy="793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83320" y="808200"/>
            <a:ext cx="106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583320" y="560520"/>
            <a:ext cx="106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93040" y="1650960"/>
            <a:ext cx="106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582960" y="1403280"/>
            <a:ext cx="104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97920" y="1558800"/>
            <a:ext cx="806400" cy="8431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54920" y="2500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dversar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05760" y="92700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2" idx="6"/>
            <a:endCxn id="375" idx="1"/>
          </p:cNvCxnSpPr>
          <p:nvPr/>
        </p:nvCxnSpPr>
        <p:spPr>
          <a:xfrm>
            <a:off x="5195520" y="9075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5270040" y="17002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92600" y="1503360"/>
            <a:ext cx="19692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40560" y="1503360"/>
            <a:ext cx="19836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89600" y="1503360"/>
            <a:ext cx="19836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6" idx="0"/>
            <a:endCxn id="375" idx="2"/>
          </p:cNvCxnSpPr>
          <p:nvPr/>
        </p:nvCxnSpPr>
        <p:spPr>
          <a:xfrm flipV="1">
            <a:off x="5839920" y="13042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6732720" y="361800"/>
            <a:ext cx="792000" cy="148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56120" y="3387600"/>
            <a:ext cx="1139760" cy="297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56120" y="3139920"/>
            <a:ext cx="1139760" cy="297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56120" y="2890800"/>
            <a:ext cx="1139760" cy="29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56120" y="2643120"/>
            <a:ext cx="1139760" cy="29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56120" y="2395440"/>
            <a:ext cx="1139760" cy="297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b7b4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56120" y="2147760"/>
            <a:ext cx="1139760" cy="297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2880" y="2395440"/>
            <a:ext cx="693720" cy="793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83320" y="2692440"/>
            <a:ext cx="106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583320" y="2444760"/>
            <a:ext cx="106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93040" y="3535200"/>
            <a:ext cx="106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582960" y="3287880"/>
            <a:ext cx="104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71200" y="28130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6"/>
            <a:endCxn id="396" idx="1"/>
          </p:cNvCxnSpPr>
          <p:nvPr/>
        </p:nvCxnSpPr>
        <p:spPr>
          <a:xfrm>
            <a:off x="5195520" y="27921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5270040" y="3584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92600" y="3387600"/>
            <a:ext cx="196920" cy="19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40560" y="3387600"/>
            <a:ext cx="198360" cy="19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89600" y="3387600"/>
            <a:ext cx="198360" cy="19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5" idx="0"/>
            <a:endCxn id="396" idx="2"/>
          </p:cNvCxnSpPr>
          <p:nvPr/>
        </p:nvCxnSpPr>
        <p:spPr>
          <a:xfrm flipV="1">
            <a:off x="5839920" y="318852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6732720" y="2246400"/>
            <a:ext cx="792000" cy="148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75000" y="201600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10480" y="762120"/>
            <a:ext cx="533520" cy="533160"/>
          </a:xfrm>
          <a:prstGeom prst="cloudCallout">
            <a:avLst>
              <a:gd name="adj1" fmla="val -26486"/>
              <a:gd name="adj2" fmla="val 8839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844-C335-4C67-8F41-7DF916BE117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352680" y="10666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nur-Nissim Approach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iNi03,DwNi04,BDMN05]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some p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probability distribution b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dates beliefs based on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sw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Bayes’ ru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indivi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predicate  g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0,1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beliefs about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beliefs about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83440" y="1219320"/>
            <a:ext cx="5520960" cy="1773720"/>
            <a:chOff x="3583440" y="1219320"/>
            <a:chExt cx="5520960" cy="1773720"/>
          </a:xfrm>
        </p:grpSpPr>
        <p:grpSp>
          <p:nvGrpSpPr>
            <p:cNvPr id="416" name=""/>
            <p:cNvGrpSpPr/>
            <p:nvPr/>
          </p:nvGrpSpPr>
          <p:grpSpPr>
            <a:xfrm>
              <a:off x="4033440" y="1219320"/>
              <a:ext cx="1139760" cy="1536480"/>
              <a:chOff x="4033440" y="1219320"/>
              <a:chExt cx="1139760" cy="1536480"/>
            </a:xfrm>
          </p:grpSpPr>
          <p:sp>
            <p:nvSpPr>
              <p:cNvPr id="417" name=""/>
              <p:cNvSpPr/>
              <p:nvPr/>
            </p:nvSpPr>
            <p:spPr>
              <a:xfrm>
                <a:off x="4033440" y="245844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3440" y="22104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33440" y="19627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033440" y="171468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33440" y="14670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33440" y="12193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470560" y="1467000"/>
              <a:ext cx="693720" cy="79308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61000" y="176436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561000" y="151668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70000" y="2607120"/>
              <a:ext cx="106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561000" y="2359080"/>
              <a:ext cx="10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65080" y="1417680"/>
              <a:ext cx="806040" cy="8424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21720" y="2359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dversary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83440" y="188316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" name=""/>
            <p:cNvCxnSpPr>
              <a:stCxn id="420" idx="6"/>
              <a:endCxn id="423" idx="1"/>
            </p:cNvCxnSpPr>
            <p:nvPr/>
          </p:nvCxnSpPr>
          <p:spPr>
            <a:xfrm>
              <a:off x="5172840" y="1863360"/>
              <a:ext cx="29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2" name=""/>
            <p:cNvSpPr/>
            <p:nvPr/>
          </p:nvSpPr>
          <p:spPr>
            <a:xfrm>
              <a:off x="5247360" y="265572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956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824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692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" name=""/>
            <p:cNvCxnSpPr>
              <a:stCxn id="434" idx="0"/>
              <a:endCxn id="423" idx="2"/>
            </p:cNvCxnSpPr>
            <p:nvPr/>
          </p:nvCxnSpPr>
          <p:spPr>
            <a:xfrm flipV="1">
              <a:off x="5817240" y="2259360"/>
              <a:ext cx="1080" cy="19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7" name=""/>
            <p:cNvSpPr/>
            <p:nvPr/>
          </p:nvSpPr>
          <p:spPr>
            <a:xfrm>
              <a:off x="6709680" y="1318320"/>
              <a:ext cx="792720" cy="148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ran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(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406680" y="3949560"/>
            <a:ext cx="3146400" cy="581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1D2-E099-431D-85D3-DE2482E58E1B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90720" y="5715000"/>
            <a:ext cx="6933960" cy="990720"/>
          </a:xfrm>
          <a:prstGeom prst="roundRect">
            <a:avLst>
              <a:gd name="adj" fmla="val 36861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10666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5181480"/>
            <a:ext cx="761760" cy="6098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5181480"/>
            <a:ext cx="762120" cy="6098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4572000"/>
            <a:ext cx="4724280" cy="6858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nur-Nissim Approach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iNi03,DwNi04,BDMN05]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some p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probability distribution b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dates beliefs based on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sw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Bayes’ ru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indivi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every predicate  g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beliefs about g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beliefs about g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583440" y="1219320"/>
            <a:ext cx="5520960" cy="1773720"/>
            <a:chOff x="3583440" y="1219320"/>
            <a:chExt cx="5520960" cy="1773720"/>
          </a:xfrm>
        </p:grpSpPr>
        <p:grpSp>
          <p:nvGrpSpPr>
            <p:cNvPr id="448" name=""/>
            <p:cNvGrpSpPr/>
            <p:nvPr/>
          </p:nvGrpSpPr>
          <p:grpSpPr>
            <a:xfrm>
              <a:off x="4033440" y="1219320"/>
              <a:ext cx="1139760" cy="1536480"/>
              <a:chOff x="4033440" y="1219320"/>
              <a:chExt cx="1139760" cy="1536480"/>
            </a:xfrm>
          </p:grpSpPr>
          <p:sp>
            <p:nvSpPr>
              <p:cNvPr id="449" name=""/>
              <p:cNvSpPr/>
              <p:nvPr/>
            </p:nvSpPr>
            <p:spPr>
              <a:xfrm>
                <a:off x="4033440" y="245844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3440" y="22104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33440" y="19627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33440" y="171468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33440" y="14670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3440" y="12193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5470560" y="1467000"/>
              <a:ext cx="693720" cy="79308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61000" y="176436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561000" y="151668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70000" y="2607120"/>
              <a:ext cx="106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561000" y="2359080"/>
              <a:ext cx="10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65080" y="1417680"/>
              <a:ext cx="806040" cy="8424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21720" y="2359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dversary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83440" y="188316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2" idx="6"/>
              <a:endCxn id="455" idx="1"/>
            </p:cNvCxnSpPr>
            <p:nvPr/>
          </p:nvCxnSpPr>
          <p:spPr>
            <a:xfrm>
              <a:off x="5172840" y="1863360"/>
              <a:ext cx="29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4" name=""/>
            <p:cNvSpPr/>
            <p:nvPr/>
          </p:nvSpPr>
          <p:spPr>
            <a:xfrm>
              <a:off x="5247360" y="265572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6956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1824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692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8" name=""/>
            <p:cNvCxnSpPr>
              <a:stCxn id="466" idx="0"/>
              <a:endCxn id="455" idx="2"/>
            </p:cNvCxnSpPr>
            <p:nvPr/>
          </p:nvCxnSpPr>
          <p:spPr>
            <a:xfrm flipV="1">
              <a:off x="5817240" y="2259360"/>
              <a:ext cx="1080" cy="19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"/>
            <p:cNvSpPr/>
            <p:nvPr/>
          </p:nvSpPr>
          <p:spPr>
            <a:xfrm>
              <a:off x="6709680" y="1318320"/>
              <a:ext cx="792720" cy="148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ran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(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406680" y="3949560"/>
            <a:ext cx="3146400" cy="5810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562720" y="990720"/>
            <a:ext cx="3581280" cy="1600200"/>
          </a:xfrm>
          <a:prstGeom prst="wedgeRoundRectCallout">
            <a:avLst>
              <a:gd name="adj1" fmla="val -157666"/>
              <a:gd name="adj2" fmla="val 51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For wha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kinds of “beliefs”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can we have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ivac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1158840" y="5767560"/>
            <a:ext cx="663588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8DE-B991-466E-839D-119A0F83ACC9}" type="slidenum">
              <a:t>16</a:t>
            </a:fld>
          </a:p>
        </p:txBody>
      </p:sp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has a target “victim”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ed”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ary knows n-k other rows exa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formed beliefs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distinguishability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’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vent changes probability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48520" y="4495680"/>
            <a:ext cx="1523880" cy="990720"/>
          </a:xfrm>
          <a:prstGeom prst="roundRect">
            <a:avLst>
              <a:gd name="adj" fmla="val 23880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Informed” Belief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49880" y="2922480"/>
            <a:ext cx="3057480" cy="2017800"/>
          </a:xfrm>
          <a:custGeom>
            <a:avLst/>
            <a:gdLst/>
            <a:ahLst/>
            <a:rect l="l" t="t" r="r" b="b"/>
            <a:pathLst>
              <a:path w="1926" h="1271">
                <a:moveTo>
                  <a:pt x="0" y="277"/>
                </a:moveTo>
                <a:cubicBezTo>
                  <a:pt x="273" y="246"/>
                  <a:pt x="1354" y="0"/>
                  <a:pt x="1640" y="82"/>
                </a:cubicBezTo>
                <a:cubicBezTo>
                  <a:pt x="1926" y="164"/>
                  <a:pt x="1812" y="572"/>
                  <a:pt x="1714" y="770"/>
                </a:cubicBezTo>
                <a:cubicBezTo>
                  <a:pt x="1616" y="968"/>
                  <a:pt x="1188" y="1167"/>
                  <a:pt x="1050" y="127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225960" y="3862440"/>
            <a:ext cx="4578120" cy="2170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225960" y="3862440"/>
            <a:ext cx="4578120" cy="21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8AE-597E-44EA-8DEF-B4710FC5A7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ummary of Definitio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stinguish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atabases induce similar transcrip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” securit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formulate this as simu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y n-k points in the databas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ool adver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loser to “incremental risk” as defined in Frank’s 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00D-E8BB-475D-AE1E-D5AD3B6279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533520" y="3809880"/>
            <a:ext cx="81532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3276720"/>
            <a:ext cx="6248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is talk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igorous Definitions of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distinguishability: simple definition, easy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plied “semantic” definitions: posterior vs prior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ramework for output pertu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nsitiv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fe to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ata mining with insensi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istograms, clustering, model-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1600200"/>
            <a:ext cx="75960" cy="15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80520" y="1371600"/>
            <a:ext cx="228600" cy="3808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35B-5B65-4E96-8296-8ABA6F6170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ivacy vs Utilit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lear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istic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leaking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ivacy? What information is “global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n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changing a few inputs can drastically change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on: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tion i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lk: formalize this for a particula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ED2-17F9-43A7-84CD-EB72FBC69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-168120" y="1219320"/>
            <a:ext cx="8681760" cy="3463920"/>
          </a:xfrm>
          <a:custGeom>
            <a:avLst/>
            <a:gdLst/>
            <a:ahLst/>
            <a:rect l="l" t="t" r="r" b="b"/>
            <a:pathLst>
              <a:path w="5469" h="2182">
                <a:moveTo>
                  <a:pt x="688" y="15"/>
                </a:moveTo>
                <a:cubicBezTo>
                  <a:pt x="614" y="39"/>
                  <a:pt x="541" y="63"/>
                  <a:pt x="467" y="88"/>
                </a:cubicBezTo>
                <a:cubicBezTo>
                  <a:pt x="437" y="97"/>
                  <a:pt x="409" y="107"/>
                  <a:pt x="378" y="118"/>
                </a:cubicBezTo>
                <a:cubicBezTo>
                  <a:pt x="363" y="122"/>
                  <a:pt x="335" y="133"/>
                  <a:pt x="335" y="133"/>
                </a:cubicBezTo>
                <a:cubicBezTo>
                  <a:pt x="270" y="227"/>
                  <a:pt x="289" y="317"/>
                  <a:pt x="319" y="427"/>
                </a:cubicBezTo>
                <a:cubicBezTo>
                  <a:pt x="330" y="467"/>
                  <a:pt x="350" y="545"/>
                  <a:pt x="350" y="545"/>
                </a:cubicBezTo>
                <a:cubicBezTo>
                  <a:pt x="329" y="673"/>
                  <a:pt x="323" y="680"/>
                  <a:pt x="202" y="722"/>
                </a:cubicBezTo>
                <a:cubicBezTo>
                  <a:pt x="175" y="749"/>
                  <a:pt x="138" y="767"/>
                  <a:pt x="113" y="796"/>
                </a:cubicBezTo>
                <a:cubicBezTo>
                  <a:pt x="81" y="830"/>
                  <a:pt x="0" y="870"/>
                  <a:pt x="10" y="929"/>
                </a:cubicBezTo>
                <a:cubicBezTo>
                  <a:pt x="31" y="1031"/>
                  <a:pt x="63" y="1116"/>
                  <a:pt x="172" y="1149"/>
                </a:cubicBezTo>
                <a:cubicBezTo>
                  <a:pt x="233" y="1190"/>
                  <a:pt x="298" y="1190"/>
                  <a:pt x="363" y="1223"/>
                </a:cubicBezTo>
                <a:cubicBezTo>
                  <a:pt x="467" y="1276"/>
                  <a:pt x="353" y="1235"/>
                  <a:pt x="452" y="1267"/>
                </a:cubicBezTo>
                <a:cubicBezTo>
                  <a:pt x="495" y="1311"/>
                  <a:pt x="522" y="1341"/>
                  <a:pt x="540" y="1400"/>
                </a:cubicBezTo>
                <a:cubicBezTo>
                  <a:pt x="523" y="1542"/>
                  <a:pt x="514" y="1555"/>
                  <a:pt x="540" y="1724"/>
                </a:cubicBezTo>
                <a:cubicBezTo>
                  <a:pt x="546" y="1768"/>
                  <a:pt x="569" y="1835"/>
                  <a:pt x="614" y="1857"/>
                </a:cubicBezTo>
                <a:cubicBezTo>
                  <a:pt x="637" y="1868"/>
                  <a:pt x="664" y="1868"/>
                  <a:pt x="688" y="1872"/>
                </a:cubicBezTo>
                <a:cubicBezTo>
                  <a:pt x="831" y="1857"/>
                  <a:pt x="898" y="1852"/>
                  <a:pt x="1026" y="1787"/>
                </a:cubicBezTo>
                <a:cubicBezTo>
                  <a:pt x="1099" y="1677"/>
                  <a:pt x="1255" y="1715"/>
                  <a:pt x="1396" y="1724"/>
                </a:cubicBezTo>
                <a:cubicBezTo>
                  <a:pt x="1452" y="1744"/>
                  <a:pt x="1493" y="1753"/>
                  <a:pt x="1542" y="1783"/>
                </a:cubicBezTo>
                <a:cubicBezTo>
                  <a:pt x="1672" y="1860"/>
                  <a:pt x="1586" y="1826"/>
                  <a:pt x="1675" y="1857"/>
                </a:cubicBezTo>
                <a:cubicBezTo>
                  <a:pt x="1761" y="1983"/>
                  <a:pt x="1834" y="2063"/>
                  <a:pt x="1985" y="2093"/>
                </a:cubicBezTo>
                <a:cubicBezTo>
                  <a:pt x="2044" y="2088"/>
                  <a:pt x="2102" y="2085"/>
                  <a:pt x="2161" y="2078"/>
                </a:cubicBezTo>
                <a:cubicBezTo>
                  <a:pt x="2208" y="2072"/>
                  <a:pt x="2250" y="2049"/>
                  <a:pt x="2294" y="2034"/>
                </a:cubicBezTo>
                <a:cubicBezTo>
                  <a:pt x="2371" y="2008"/>
                  <a:pt x="2451" y="1995"/>
                  <a:pt x="2530" y="1975"/>
                </a:cubicBezTo>
                <a:cubicBezTo>
                  <a:pt x="2595" y="1959"/>
                  <a:pt x="2656" y="1933"/>
                  <a:pt x="2721" y="1916"/>
                </a:cubicBezTo>
                <a:cubicBezTo>
                  <a:pt x="3008" y="1925"/>
                  <a:pt x="3105" y="1897"/>
                  <a:pt x="3312" y="1960"/>
                </a:cubicBezTo>
                <a:cubicBezTo>
                  <a:pt x="3454" y="2058"/>
                  <a:pt x="3585" y="2102"/>
                  <a:pt x="3754" y="2123"/>
                </a:cubicBezTo>
                <a:cubicBezTo>
                  <a:pt x="3837" y="2149"/>
                  <a:pt x="3919" y="2164"/>
                  <a:pt x="4005" y="2182"/>
                </a:cubicBezTo>
                <a:cubicBezTo>
                  <a:pt x="4467" y="2149"/>
                  <a:pt x="4290" y="2173"/>
                  <a:pt x="4535" y="2137"/>
                </a:cubicBezTo>
                <a:cubicBezTo>
                  <a:pt x="4654" y="2099"/>
                  <a:pt x="4765" y="2076"/>
                  <a:pt x="4888" y="2049"/>
                </a:cubicBezTo>
                <a:cubicBezTo>
                  <a:pt x="4938" y="2039"/>
                  <a:pt x="4974" y="2007"/>
                  <a:pt x="5021" y="1990"/>
                </a:cubicBezTo>
                <a:cubicBezTo>
                  <a:pt x="5129" y="1885"/>
                  <a:pt x="5256" y="1848"/>
                  <a:pt x="5404" y="1827"/>
                </a:cubicBezTo>
                <a:cubicBezTo>
                  <a:pt x="5449" y="1697"/>
                  <a:pt x="5469" y="1788"/>
                  <a:pt x="5419" y="1592"/>
                </a:cubicBezTo>
                <a:cubicBezTo>
                  <a:pt x="5409" y="1552"/>
                  <a:pt x="5389" y="1474"/>
                  <a:pt x="5389" y="1474"/>
                </a:cubicBezTo>
                <a:cubicBezTo>
                  <a:pt x="5401" y="1358"/>
                  <a:pt x="5427" y="1250"/>
                  <a:pt x="5448" y="1136"/>
                </a:cubicBezTo>
                <a:cubicBezTo>
                  <a:pt x="5433" y="959"/>
                  <a:pt x="5436" y="713"/>
                  <a:pt x="5330" y="560"/>
                </a:cubicBezTo>
                <a:cubicBezTo>
                  <a:pt x="5295" y="447"/>
                  <a:pt x="5295" y="332"/>
                  <a:pt x="5199" y="251"/>
                </a:cubicBezTo>
                <a:cubicBezTo>
                  <a:pt x="5149" y="210"/>
                  <a:pt x="5080" y="196"/>
                  <a:pt x="5021" y="177"/>
                </a:cubicBezTo>
                <a:cubicBezTo>
                  <a:pt x="4992" y="166"/>
                  <a:pt x="4933" y="146"/>
                  <a:pt x="4933" y="146"/>
                </a:cubicBezTo>
                <a:cubicBezTo>
                  <a:pt x="4806" y="189"/>
                  <a:pt x="4667" y="205"/>
                  <a:pt x="4535" y="220"/>
                </a:cubicBezTo>
                <a:cubicBezTo>
                  <a:pt x="4285" y="210"/>
                  <a:pt x="4288" y="219"/>
                  <a:pt x="4107" y="192"/>
                </a:cubicBezTo>
                <a:cubicBezTo>
                  <a:pt x="3940" y="168"/>
                  <a:pt x="3792" y="130"/>
                  <a:pt x="3621" y="118"/>
                </a:cubicBezTo>
                <a:cubicBezTo>
                  <a:pt x="3426" y="85"/>
                  <a:pt x="3244" y="33"/>
                  <a:pt x="3046" y="15"/>
                </a:cubicBezTo>
                <a:cubicBezTo>
                  <a:pt x="2791" y="21"/>
                  <a:pt x="2534" y="15"/>
                  <a:pt x="2279" y="44"/>
                </a:cubicBezTo>
                <a:cubicBezTo>
                  <a:pt x="2154" y="57"/>
                  <a:pt x="2034" y="107"/>
                  <a:pt x="1911" y="133"/>
                </a:cubicBezTo>
                <a:cubicBezTo>
                  <a:pt x="1764" y="128"/>
                  <a:pt x="1616" y="127"/>
                  <a:pt x="1470" y="118"/>
                </a:cubicBezTo>
                <a:cubicBezTo>
                  <a:pt x="1419" y="115"/>
                  <a:pt x="1322" y="74"/>
                  <a:pt x="1322" y="74"/>
                </a:cubicBezTo>
                <a:cubicBezTo>
                  <a:pt x="1240" y="17"/>
                  <a:pt x="1154" y="12"/>
                  <a:pt x="1056" y="0"/>
                </a:cubicBezTo>
                <a:cubicBezTo>
                  <a:pt x="952" y="36"/>
                  <a:pt x="1082" y="0"/>
                  <a:pt x="954" y="0"/>
                </a:cubicBezTo>
                <a:cubicBezTo>
                  <a:pt x="846" y="0"/>
                  <a:pt x="723" y="17"/>
                  <a:pt x="614" y="29"/>
                </a:cubicBezTo>
                <a:cubicBezTo>
                  <a:pt x="599" y="79"/>
                  <a:pt x="600" y="59"/>
                  <a:pt x="600" y="88"/>
                </a:cubicBezTo>
                <a:lnTo>
                  <a:pt x="550" y="12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call: Output Perturb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st of n rows, each from domain D (say 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Perturb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ubmits qu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s back perturbed versio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38080" y="1447920"/>
            <a:ext cx="1752840" cy="2361960"/>
            <a:chOff x="838080" y="1447920"/>
            <a:chExt cx="1752840" cy="2361960"/>
          </a:xfrm>
        </p:grpSpPr>
        <p:sp>
          <p:nvSpPr>
            <p:cNvPr id="491" name=""/>
            <p:cNvSpPr/>
            <p:nvPr/>
          </p:nvSpPr>
          <p:spPr>
            <a:xfrm>
              <a:off x="838080" y="3352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8080" y="2971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2590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8080" y="2209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1828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1447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400800" y="160020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government, research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rketers,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648320" y="1627200"/>
            <a:ext cx="1644480" cy="520560"/>
            <a:chOff x="4648320" y="1627200"/>
            <a:chExt cx="1644480" cy="520560"/>
          </a:xfrm>
        </p:grpSpPr>
        <p:sp>
          <p:nvSpPr>
            <p:cNvPr id="499" name=""/>
            <p:cNvSpPr/>
            <p:nvPr/>
          </p:nvSpPr>
          <p:spPr>
            <a:xfrm flipH="1">
              <a:off x="4648320" y="2133720"/>
              <a:ext cx="1644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99160" y="162720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unction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303440" y="2387520"/>
            <a:ext cx="2417760" cy="579600"/>
            <a:chOff x="4303440" y="2387520"/>
            <a:chExt cx="2417760" cy="579600"/>
          </a:xfrm>
        </p:grpSpPr>
        <p:sp>
          <p:nvSpPr>
            <p:cNvPr id="502" name=""/>
            <p:cNvSpPr/>
            <p:nvPr/>
          </p:nvSpPr>
          <p:spPr>
            <a:xfrm>
              <a:off x="4680000" y="2895480"/>
              <a:ext cx="1644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03440" y="2387520"/>
              <a:ext cx="241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(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,…,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 + noi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29680" y="231624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590920" y="1828800"/>
            <a:ext cx="1737360" cy="2151360"/>
            <a:chOff x="2590920" y="1828800"/>
            <a:chExt cx="1737360" cy="2151360"/>
          </a:xfrm>
        </p:grpSpPr>
        <p:sp>
          <p:nvSpPr>
            <p:cNvPr id="506" name=""/>
            <p:cNvSpPr/>
            <p:nvPr/>
          </p:nvSpPr>
          <p:spPr>
            <a:xfrm>
              <a:off x="3048120" y="1828800"/>
              <a:ext cx="1066680" cy="121932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stCxn id="494" idx="6"/>
              <a:endCxn id="506" idx="1"/>
            </p:cNvCxnSpPr>
            <p:nvPr/>
          </p:nvCxnSpPr>
          <p:spPr>
            <a:xfrm>
              <a:off x="2590920" y="24379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8" name=""/>
            <p:cNvSpPr/>
            <p:nvPr/>
          </p:nvSpPr>
          <p:spPr>
            <a:xfrm>
              <a:off x="2898000" y="358128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00400" y="33526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29000" y="33526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57600" y="33526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0" idx="0"/>
              <a:endCxn id="506" idx="2"/>
            </p:cNvCxnSpPr>
            <p:nvPr/>
          </p:nvCxnSpPr>
          <p:spPr>
            <a:xfrm flipV="1">
              <a:off x="3580920" y="304776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13" name=""/>
          <p:cNvSpPr/>
          <p:nvPr/>
        </p:nvSpPr>
        <p:spPr>
          <a:xfrm>
            <a:off x="4724280" y="3429000"/>
            <a:ext cx="4191120" cy="2057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n can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functions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kind of perturb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ay depend on # of qu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3" idx="1"/>
            <a:endCxn id="506" idx="3"/>
          </p:cNvCxnSpPr>
          <p:nvPr/>
        </p:nvCxnSpPr>
        <p:spPr>
          <a:xfrm rot="10800000">
            <a:off x="4114080" y="2437560"/>
            <a:ext cx="610200" cy="20203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877-217D-4445-9ED0-80FC3FCEA9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28600" y="6019920"/>
            <a:ext cx="8686800" cy="533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4952880"/>
            <a:ext cx="86868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168120" y="1219320"/>
            <a:ext cx="8681760" cy="3463920"/>
          </a:xfrm>
          <a:custGeom>
            <a:avLst/>
            <a:gdLst/>
            <a:ahLst/>
            <a:rect l="l" t="t" r="r" b="b"/>
            <a:pathLst>
              <a:path w="5469" h="2182">
                <a:moveTo>
                  <a:pt x="688" y="15"/>
                </a:moveTo>
                <a:cubicBezTo>
                  <a:pt x="614" y="39"/>
                  <a:pt x="541" y="63"/>
                  <a:pt x="467" y="88"/>
                </a:cubicBezTo>
                <a:cubicBezTo>
                  <a:pt x="437" y="97"/>
                  <a:pt x="409" y="107"/>
                  <a:pt x="378" y="118"/>
                </a:cubicBezTo>
                <a:cubicBezTo>
                  <a:pt x="363" y="122"/>
                  <a:pt x="335" y="133"/>
                  <a:pt x="335" y="133"/>
                </a:cubicBezTo>
                <a:cubicBezTo>
                  <a:pt x="270" y="227"/>
                  <a:pt x="289" y="317"/>
                  <a:pt x="319" y="427"/>
                </a:cubicBezTo>
                <a:cubicBezTo>
                  <a:pt x="330" y="467"/>
                  <a:pt x="350" y="545"/>
                  <a:pt x="350" y="545"/>
                </a:cubicBezTo>
                <a:cubicBezTo>
                  <a:pt x="329" y="673"/>
                  <a:pt x="323" y="680"/>
                  <a:pt x="202" y="722"/>
                </a:cubicBezTo>
                <a:cubicBezTo>
                  <a:pt x="175" y="749"/>
                  <a:pt x="138" y="767"/>
                  <a:pt x="113" y="796"/>
                </a:cubicBezTo>
                <a:cubicBezTo>
                  <a:pt x="81" y="830"/>
                  <a:pt x="0" y="870"/>
                  <a:pt x="10" y="929"/>
                </a:cubicBezTo>
                <a:cubicBezTo>
                  <a:pt x="31" y="1031"/>
                  <a:pt x="63" y="1116"/>
                  <a:pt x="172" y="1149"/>
                </a:cubicBezTo>
                <a:cubicBezTo>
                  <a:pt x="233" y="1190"/>
                  <a:pt x="298" y="1190"/>
                  <a:pt x="363" y="1223"/>
                </a:cubicBezTo>
                <a:cubicBezTo>
                  <a:pt x="467" y="1276"/>
                  <a:pt x="353" y="1235"/>
                  <a:pt x="452" y="1267"/>
                </a:cubicBezTo>
                <a:cubicBezTo>
                  <a:pt x="495" y="1311"/>
                  <a:pt x="522" y="1341"/>
                  <a:pt x="540" y="1400"/>
                </a:cubicBezTo>
                <a:cubicBezTo>
                  <a:pt x="523" y="1542"/>
                  <a:pt x="514" y="1555"/>
                  <a:pt x="540" y="1724"/>
                </a:cubicBezTo>
                <a:cubicBezTo>
                  <a:pt x="546" y="1768"/>
                  <a:pt x="569" y="1835"/>
                  <a:pt x="614" y="1857"/>
                </a:cubicBezTo>
                <a:cubicBezTo>
                  <a:pt x="637" y="1868"/>
                  <a:pt x="664" y="1868"/>
                  <a:pt x="688" y="1872"/>
                </a:cubicBezTo>
                <a:cubicBezTo>
                  <a:pt x="831" y="1857"/>
                  <a:pt x="898" y="1852"/>
                  <a:pt x="1026" y="1787"/>
                </a:cubicBezTo>
                <a:cubicBezTo>
                  <a:pt x="1099" y="1677"/>
                  <a:pt x="1255" y="1715"/>
                  <a:pt x="1396" y="1724"/>
                </a:cubicBezTo>
                <a:cubicBezTo>
                  <a:pt x="1452" y="1744"/>
                  <a:pt x="1493" y="1753"/>
                  <a:pt x="1542" y="1783"/>
                </a:cubicBezTo>
                <a:cubicBezTo>
                  <a:pt x="1672" y="1860"/>
                  <a:pt x="1586" y="1826"/>
                  <a:pt x="1675" y="1857"/>
                </a:cubicBezTo>
                <a:cubicBezTo>
                  <a:pt x="1761" y="1983"/>
                  <a:pt x="1834" y="2063"/>
                  <a:pt x="1985" y="2093"/>
                </a:cubicBezTo>
                <a:cubicBezTo>
                  <a:pt x="2044" y="2088"/>
                  <a:pt x="2102" y="2085"/>
                  <a:pt x="2161" y="2078"/>
                </a:cubicBezTo>
                <a:cubicBezTo>
                  <a:pt x="2208" y="2072"/>
                  <a:pt x="2250" y="2049"/>
                  <a:pt x="2294" y="2034"/>
                </a:cubicBezTo>
                <a:cubicBezTo>
                  <a:pt x="2371" y="2008"/>
                  <a:pt x="2451" y="1995"/>
                  <a:pt x="2530" y="1975"/>
                </a:cubicBezTo>
                <a:cubicBezTo>
                  <a:pt x="2595" y="1959"/>
                  <a:pt x="2656" y="1933"/>
                  <a:pt x="2721" y="1916"/>
                </a:cubicBezTo>
                <a:cubicBezTo>
                  <a:pt x="3008" y="1925"/>
                  <a:pt x="3105" y="1897"/>
                  <a:pt x="3312" y="1960"/>
                </a:cubicBezTo>
                <a:cubicBezTo>
                  <a:pt x="3454" y="2058"/>
                  <a:pt x="3585" y="2102"/>
                  <a:pt x="3754" y="2123"/>
                </a:cubicBezTo>
                <a:cubicBezTo>
                  <a:pt x="3837" y="2149"/>
                  <a:pt x="3919" y="2164"/>
                  <a:pt x="4005" y="2182"/>
                </a:cubicBezTo>
                <a:cubicBezTo>
                  <a:pt x="4467" y="2149"/>
                  <a:pt x="4290" y="2173"/>
                  <a:pt x="4535" y="2137"/>
                </a:cubicBezTo>
                <a:cubicBezTo>
                  <a:pt x="4654" y="2099"/>
                  <a:pt x="4765" y="2076"/>
                  <a:pt x="4888" y="2049"/>
                </a:cubicBezTo>
                <a:cubicBezTo>
                  <a:pt x="4938" y="2039"/>
                  <a:pt x="4974" y="2007"/>
                  <a:pt x="5021" y="1990"/>
                </a:cubicBezTo>
                <a:cubicBezTo>
                  <a:pt x="5129" y="1885"/>
                  <a:pt x="5256" y="1848"/>
                  <a:pt x="5404" y="1827"/>
                </a:cubicBezTo>
                <a:cubicBezTo>
                  <a:pt x="5449" y="1697"/>
                  <a:pt x="5469" y="1788"/>
                  <a:pt x="5419" y="1592"/>
                </a:cubicBezTo>
                <a:cubicBezTo>
                  <a:pt x="5409" y="1552"/>
                  <a:pt x="5389" y="1474"/>
                  <a:pt x="5389" y="1474"/>
                </a:cubicBezTo>
                <a:cubicBezTo>
                  <a:pt x="5401" y="1358"/>
                  <a:pt x="5427" y="1250"/>
                  <a:pt x="5448" y="1136"/>
                </a:cubicBezTo>
                <a:cubicBezTo>
                  <a:pt x="5433" y="959"/>
                  <a:pt x="5436" y="713"/>
                  <a:pt x="5330" y="560"/>
                </a:cubicBezTo>
                <a:cubicBezTo>
                  <a:pt x="5295" y="447"/>
                  <a:pt x="5295" y="332"/>
                  <a:pt x="5199" y="251"/>
                </a:cubicBezTo>
                <a:cubicBezTo>
                  <a:pt x="5149" y="210"/>
                  <a:pt x="5080" y="196"/>
                  <a:pt x="5021" y="177"/>
                </a:cubicBezTo>
                <a:cubicBezTo>
                  <a:pt x="4992" y="166"/>
                  <a:pt x="4933" y="146"/>
                  <a:pt x="4933" y="146"/>
                </a:cubicBezTo>
                <a:cubicBezTo>
                  <a:pt x="4806" y="189"/>
                  <a:pt x="4667" y="205"/>
                  <a:pt x="4535" y="220"/>
                </a:cubicBezTo>
                <a:cubicBezTo>
                  <a:pt x="4285" y="210"/>
                  <a:pt x="4288" y="219"/>
                  <a:pt x="4107" y="192"/>
                </a:cubicBezTo>
                <a:cubicBezTo>
                  <a:pt x="3940" y="168"/>
                  <a:pt x="3792" y="130"/>
                  <a:pt x="3621" y="118"/>
                </a:cubicBezTo>
                <a:cubicBezTo>
                  <a:pt x="3426" y="85"/>
                  <a:pt x="3244" y="33"/>
                  <a:pt x="3046" y="15"/>
                </a:cubicBezTo>
                <a:cubicBezTo>
                  <a:pt x="2791" y="21"/>
                  <a:pt x="2534" y="15"/>
                  <a:pt x="2279" y="44"/>
                </a:cubicBezTo>
                <a:cubicBezTo>
                  <a:pt x="2154" y="57"/>
                  <a:pt x="2034" y="107"/>
                  <a:pt x="1911" y="133"/>
                </a:cubicBezTo>
                <a:cubicBezTo>
                  <a:pt x="1764" y="128"/>
                  <a:pt x="1616" y="127"/>
                  <a:pt x="1470" y="118"/>
                </a:cubicBezTo>
                <a:cubicBezTo>
                  <a:pt x="1419" y="115"/>
                  <a:pt x="1322" y="74"/>
                  <a:pt x="1322" y="74"/>
                </a:cubicBezTo>
                <a:cubicBezTo>
                  <a:pt x="1240" y="17"/>
                  <a:pt x="1154" y="12"/>
                  <a:pt x="1056" y="0"/>
                </a:cubicBezTo>
                <a:cubicBezTo>
                  <a:pt x="952" y="36"/>
                  <a:pt x="1082" y="0"/>
                  <a:pt x="954" y="0"/>
                </a:cubicBezTo>
                <a:cubicBezTo>
                  <a:pt x="846" y="0"/>
                  <a:pt x="723" y="17"/>
                  <a:pt x="614" y="29"/>
                </a:cubicBezTo>
                <a:cubicBezTo>
                  <a:pt x="599" y="79"/>
                  <a:pt x="600" y="59"/>
                  <a:pt x="600" y="88"/>
                </a:cubicBezTo>
                <a:lnTo>
                  <a:pt x="550" y="12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evious Work: 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LQ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[DiN03,DwN04,BDMN05]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little” functions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users to T queries (typically T &lt;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838080" y="1447920"/>
            <a:ext cx="1752840" cy="2361960"/>
            <a:chOff x="838080" y="1447920"/>
            <a:chExt cx="1752840" cy="2361960"/>
          </a:xfrm>
        </p:grpSpPr>
        <p:sp>
          <p:nvSpPr>
            <p:cNvPr id="521" name=""/>
            <p:cNvSpPr/>
            <p:nvPr/>
          </p:nvSpPr>
          <p:spPr>
            <a:xfrm>
              <a:off x="838080" y="3352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2971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8080" y="2590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2209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8080" y="1828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1447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400800" y="160020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government, research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rketers,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648320" y="2133720"/>
            <a:ext cx="1644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53480" y="1523880"/>
            <a:ext cx="229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: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{0,1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2895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9680" y="231624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71800" y="1447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71800" y="18288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71800" y="26668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71800" y="33526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90920" y="1676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909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0920" y="2819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3581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2590920"/>
            <a:ext cx="6094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3429000"/>
            <a:ext cx="8380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4120" y="2590920"/>
            <a:ext cx="6094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28954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63868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2" idx="3"/>
            <a:endCxn id="540" idx="1"/>
          </p:cNvCxnSpPr>
          <p:nvPr/>
        </p:nvCxnSpPr>
        <p:spPr>
          <a:xfrm>
            <a:off x="3580920" y="1638360"/>
            <a:ext cx="69948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3" idx="3"/>
            <a:endCxn id="540" idx="1"/>
          </p:cNvCxnSpPr>
          <p:nvPr/>
        </p:nvCxnSpPr>
        <p:spPr>
          <a:xfrm>
            <a:off x="3580920" y="2019240"/>
            <a:ext cx="69948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4" idx="3"/>
            <a:endCxn id="540" idx="2"/>
          </p:cNvCxnSpPr>
          <p:nvPr/>
        </p:nvCxnSpPr>
        <p:spPr>
          <a:xfrm>
            <a:off x="3581280" y="28573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35" idx="3"/>
            <a:endCxn id="540" idx="3"/>
          </p:cNvCxnSpPr>
          <p:nvPr/>
        </p:nvCxnSpPr>
        <p:spPr>
          <a:xfrm flipV="1">
            <a:off x="3580920" y="3045600"/>
            <a:ext cx="699480" cy="49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5559480" y="1752480"/>
            <a:ext cx="3419280" cy="3821400"/>
          </a:xfrm>
          <a:custGeom>
            <a:avLst/>
            <a:gdLst/>
            <a:ahLst/>
            <a:rect l="l" t="t" r="r" b="b"/>
            <a:pathLst>
              <a:path w="2154" h="2407">
                <a:moveTo>
                  <a:pt x="1922" y="0"/>
                </a:moveTo>
                <a:cubicBezTo>
                  <a:pt x="1938" y="307"/>
                  <a:pt x="2154" y="1533"/>
                  <a:pt x="2020" y="1840"/>
                </a:cubicBezTo>
                <a:cubicBezTo>
                  <a:pt x="1886" y="2147"/>
                  <a:pt x="1452" y="1746"/>
                  <a:pt x="1115" y="1840"/>
                </a:cubicBezTo>
                <a:cubicBezTo>
                  <a:pt x="778" y="1934"/>
                  <a:pt x="232" y="2289"/>
                  <a:pt x="0" y="240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0"/>
            <a:ext cx="3733920" cy="1828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mall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ise &lt;&lt; sampling erro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4923000"/>
            <a:ext cx="86868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…, BDMN05]: If A is limi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queries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ise from Laplace distrib with std. dev.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indistinguish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noise from Normal, std. dev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380160" y="2087640"/>
            <a:ext cx="46429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Mention Di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resul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lots of queries, linear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D5A-B8E1-479E-BA90-4F02409268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-168120" y="1219320"/>
            <a:ext cx="8681760" cy="3463920"/>
          </a:xfrm>
          <a:custGeom>
            <a:avLst/>
            <a:gdLst/>
            <a:ahLst/>
            <a:rect l="l" t="t" r="r" b="b"/>
            <a:pathLst>
              <a:path w="5469" h="2182">
                <a:moveTo>
                  <a:pt x="688" y="15"/>
                </a:moveTo>
                <a:cubicBezTo>
                  <a:pt x="614" y="39"/>
                  <a:pt x="541" y="63"/>
                  <a:pt x="467" y="88"/>
                </a:cubicBezTo>
                <a:cubicBezTo>
                  <a:pt x="437" y="97"/>
                  <a:pt x="409" y="107"/>
                  <a:pt x="378" y="118"/>
                </a:cubicBezTo>
                <a:cubicBezTo>
                  <a:pt x="363" y="122"/>
                  <a:pt x="335" y="133"/>
                  <a:pt x="335" y="133"/>
                </a:cubicBezTo>
                <a:cubicBezTo>
                  <a:pt x="270" y="227"/>
                  <a:pt x="289" y="317"/>
                  <a:pt x="319" y="427"/>
                </a:cubicBezTo>
                <a:cubicBezTo>
                  <a:pt x="330" y="467"/>
                  <a:pt x="350" y="545"/>
                  <a:pt x="350" y="545"/>
                </a:cubicBezTo>
                <a:cubicBezTo>
                  <a:pt x="329" y="673"/>
                  <a:pt x="323" y="680"/>
                  <a:pt x="202" y="722"/>
                </a:cubicBezTo>
                <a:cubicBezTo>
                  <a:pt x="175" y="749"/>
                  <a:pt x="138" y="767"/>
                  <a:pt x="113" y="796"/>
                </a:cubicBezTo>
                <a:cubicBezTo>
                  <a:pt x="81" y="830"/>
                  <a:pt x="0" y="870"/>
                  <a:pt x="10" y="929"/>
                </a:cubicBezTo>
                <a:cubicBezTo>
                  <a:pt x="31" y="1031"/>
                  <a:pt x="63" y="1116"/>
                  <a:pt x="172" y="1149"/>
                </a:cubicBezTo>
                <a:cubicBezTo>
                  <a:pt x="233" y="1190"/>
                  <a:pt x="298" y="1190"/>
                  <a:pt x="363" y="1223"/>
                </a:cubicBezTo>
                <a:cubicBezTo>
                  <a:pt x="467" y="1276"/>
                  <a:pt x="353" y="1235"/>
                  <a:pt x="452" y="1267"/>
                </a:cubicBezTo>
                <a:cubicBezTo>
                  <a:pt x="495" y="1311"/>
                  <a:pt x="522" y="1341"/>
                  <a:pt x="540" y="1400"/>
                </a:cubicBezTo>
                <a:cubicBezTo>
                  <a:pt x="523" y="1542"/>
                  <a:pt x="514" y="1555"/>
                  <a:pt x="540" y="1724"/>
                </a:cubicBezTo>
                <a:cubicBezTo>
                  <a:pt x="546" y="1768"/>
                  <a:pt x="569" y="1835"/>
                  <a:pt x="614" y="1857"/>
                </a:cubicBezTo>
                <a:cubicBezTo>
                  <a:pt x="637" y="1868"/>
                  <a:pt x="664" y="1868"/>
                  <a:pt x="688" y="1872"/>
                </a:cubicBezTo>
                <a:cubicBezTo>
                  <a:pt x="831" y="1857"/>
                  <a:pt x="898" y="1852"/>
                  <a:pt x="1026" y="1787"/>
                </a:cubicBezTo>
                <a:cubicBezTo>
                  <a:pt x="1099" y="1677"/>
                  <a:pt x="1255" y="1715"/>
                  <a:pt x="1396" y="1724"/>
                </a:cubicBezTo>
                <a:cubicBezTo>
                  <a:pt x="1452" y="1744"/>
                  <a:pt x="1493" y="1753"/>
                  <a:pt x="1542" y="1783"/>
                </a:cubicBezTo>
                <a:cubicBezTo>
                  <a:pt x="1672" y="1860"/>
                  <a:pt x="1586" y="1826"/>
                  <a:pt x="1675" y="1857"/>
                </a:cubicBezTo>
                <a:cubicBezTo>
                  <a:pt x="1761" y="1983"/>
                  <a:pt x="1834" y="2063"/>
                  <a:pt x="1985" y="2093"/>
                </a:cubicBezTo>
                <a:cubicBezTo>
                  <a:pt x="2044" y="2088"/>
                  <a:pt x="2102" y="2085"/>
                  <a:pt x="2161" y="2078"/>
                </a:cubicBezTo>
                <a:cubicBezTo>
                  <a:pt x="2208" y="2072"/>
                  <a:pt x="2250" y="2049"/>
                  <a:pt x="2294" y="2034"/>
                </a:cubicBezTo>
                <a:cubicBezTo>
                  <a:pt x="2371" y="2008"/>
                  <a:pt x="2451" y="1995"/>
                  <a:pt x="2530" y="1975"/>
                </a:cubicBezTo>
                <a:cubicBezTo>
                  <a:pt x="2595" y="1959"/>
                  <a:pt x="2656" y="1933"/>
                  <a:pt x="2721" y="1916"/>
                </a:cubicBezTo>
                <a:cubicBezTo>
                  <a:pt x="3008" y="1925"/>
                  <a:pt x="3105" y="1897"/>
                  <a:pt x="3312" y="1960"/>
                </a:cubicBezTo>
                <a:cubicBezTo>
                  <a:pt x="3454" y="2058"/>
                  <a:pt x="3585" y="2102"/>
                  <a:pt x="3754" y="2123"/>
                </a:cubicBezTo>
                <a:cubicBezTo>
                  <a:pt x="3837" y="2149"/>
                  <a:pt x="3919" y="2164"/>
                  <a:pt x="4005" y="2182"/>
                </a:cubicBezTo>
                <a:cubicBezTo>
                  <a:pt x="4467" y="2149"/>
                  <a:pt x="4290" y="2173"/>
                  <a:pt x="4535" y="2137"/>
                </a:cubicBezTo>
                <a:cubicBezTo>
                  <a:pt x="4654" y="2099"/>
                  <a:pt x="4765" y="2076"/>
                  <a:pt x="4888" y="2049"/>
                </a:cubicBezTo>
                <a:cubicBezTo>
                  <a:pt x="4938" y="2039"/>
                  <a:pt x="4974" y="2007"/>
                  <a:pt x="5021" y="1990"/>
                </a:cubicBezTo>
                <a:cubicBezTo>
                  <a:pt x="5129" y="1885"/>
                  <a:pt x="5256" y="1848"/>
                  <a:pt x="5404" y="1827"/>
                </a:cubicBezTo>
                <a:cubicBezTo>
                  <a:pt x="5449" y="1697"/>
                  <a:pt x="5469" y="1788"/>
                  <a:pt x="5419" y="1592"/>
                </a:cubicBezTo>
                <a:cubicBezTo>
                  <a:pt x="5409" y="1552"/>
                  <a:pt x="5389" y="1474"/>
                  <a:pt x="5389" y="1474"/>
                </a:cubicBezTo>
                <a:cubicBezTo>
                  <a:pt x="5401" y="1358"/>
                  <a:pt x="5427" y="1250"/>
                  <a:pt x="5448" y="1136"/>
                </a:cubicBezTo>
                <a:cubicBezTo>
                  <a:pt x="5433" y="959"/>
                  <a:pt x="5436" y="713"/>
                  <a:pt x="5330" y="560"/>
                </a:cubicBezTo>
                <a:cubicBezTo>
                  <a:pt x="5295" y="447"/>
                  <a:pt x="5295" y="332"/>
                  <a:pt x="5199" y="251"/>
                </a:cubicBezTo>
                <a:cubicBezTo>
                  <a:pt x="5149" y="210"/>
                  <a:pt x="5080" y="196"/>
                  <a:pt x="5021" y="177"/>
                </a:cubicBezTo>
                <a:cubicBezTo>
                  <a:pt x="4992" y="166"/>
                  <a:pt x="4933" y="146"/>
                  <a:pt x="4933" y="146"/>
                </a:cubicBezTo>
                <a:cubicBezTo>
                  <a:pt x="4806" y="189"/>
                  <a:pt x="4667" y="205"/>
                  <a:pt x="4535" y="220"/>
                </a:cubicBezTo>
                <a:cubicBezTo>
                  <a:pt x="4285" y="210"/>
                  <a:pt x="4288" y="219"/>
                  <a:pt x="4107" y="192"/>
                </a:cubicBezTo>
                <a:cubicBezTo>
                  <a:pt x="3940" y="168"/>
                  <a:pt x="3792" y="130"/>
                  <a:pt x="3621" y="118"/>
                </a:cubicBezTo>
                <a:cubicBezTo>
                  <a:pt x="3426" y="85"/>
                  <a:pt x="3244" y="33"/>
                  <a:pt x="3046" y="15"/>
                </a:cubicBezTo>
                <a:cubicBezTo>
                  <a:pt x="2791" y="21"/>
                  <a:pt x="2534" y="15"/>
                  <a:pt x="2279" y="44"/>
                </a:cubicBezTo>
                <a:cubicBezTo>
                  <a:pt x="2154" y="57"/>
                  <a:pt x="2034" y="107"/>
                  <a:pt x="1911" y="133"/>
                </a:cubicBezTo>
                <a:cubicBezTo>
                  <a:pt x="1764" y="128"/>
                  <a:pt x="1616" y="127"/>
                  <a:pt x="1470" y="118"/>
                </a:cubicBezTo>
                <a:cubicBezTo>
                  <a:pt x="1419" y="115"/>
                  <a:pt x="1322" y="74"/>
                  <a:pt x="1322" y="74"/>
                </a:cubicBezTo>
                <a:cubicBezTo>
                  <a:pt x="1240" y="17"/>
                  <a:pt x="1154" y="12"/>
                  <a:pt x="1056" y="0"/>
                </a:cubicBezTo>
                <a:cubicBezTo>
                  <a:pt x="952" y="36"/>
                  <a:pt x="1082" y="0"/>
                  <a:pt x="954" y="0"/>
                </a:cubicBezTo>
                <a:cubicBezTo>
                  <a:pt x="846" y="0"/>
                  <a:pt x="723" y="17"/>
                  <a:pt x="614" y="29"/>
                </a:cubicBezTo>
                <a:cubicBezTo>
                  <a:pt x="599" y="79"/>
                  <a:pt x="600" y="59"/>
                  <a:pt x="600" y="88"/>
                </a:cubicBezTo>
                <a:lnTo>
                  <a:pt x="550" y="12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evious Work: 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LQ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[DiN03,DwN04,BDMN05]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computable with “noisy sums” </a:t>
            </a:r>
            <a:r>
              <a:rPr b="0" lang="en-US" sz="2400" spc="-1" strike="noStrike">
                <a:solidFill>
                  <a:srgbClr val="cc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computable priv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s, sample variance, “histogram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versions of widely-used data-mining algor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component analysis, perceptron algorithm, ID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means clustering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838080" y="1447920"/>
            <a:ext cx="1752840" cy="2361960"/>
            <a:chOff x="838080" y="1447920"/>
            <a:chExt cx="1752840" cy="2361960"/>
          </a:xfrm>
        </p:grpSpPr>
        <p:sp>
          <p:nvSpPr>
            <p:cNvPr id="557" name=""/>
            <p:cNvSpPr/>
            <p:nvPr/>
          </p:nvSpPr>
          <p:spPr>
            <a:xfrm>
              <a:off x="838080" y="3352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8080" y="2971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2590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8080" y="2209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828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8080" y="1447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400800" y="160020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government, research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rketers,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648320" y="2133720"/>
            <a:ext cx="1644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53480" y="1523880"/>
            <a:ext cx="229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: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{0,1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2895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9680" y="231624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71800" y="1447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71800" y="18288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26668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33526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1676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2819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590920" y="3581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91120" y="2590920"/>
            <a:ext cx="6094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3429000"/>
            <a:ext cx="1676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is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T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90920"/>
            <a:ext cx="6094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28954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63868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68" idx="3"/>
            <a:endCxn id="576" idx="1"/>
          </p:cNvCxnSpPr>
          <p:nvPr/>
        </p:nvCxnSpPr>
        <p:spPr>
          <a:xfrm>
            <a:off x="3580920" y="1638360"/>
            <a:ext cx="69948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69" idx="3"/>
            <a:endCxn id="576" idx="1"/>
          </p:cNvCxnSpPr>
          <p:nvPr/>
        </p:nvCxnSpPr>
        <p:spPr>
          <a:xfrm>
            <a:off x="3580920" y="2019240"/>
            <a:ext cx="69948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70" idx="3"/>
            <a:endCxn id="576" idx="2"/>
          </p:cNvCxnSpPr>
          <p:nvPr/>
        </p:nvCxnSpPr>
        <p:spPr>
          <a:xfrm>
            <a:off x="3581280" y="28573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1" idx="3"/>
            <a:endCxn id="576" idx="3"/>
          </p:cNvCxnSpPr>
          <p:nvPr/>
        </p:nvCxnSpPr>
        <p:spPr>
          <a:xfrm flipV="1">
            <a:off x="3580920" y="3045600"/>
            <a:ext cx="699480" cy="49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5791320" y="1600200"/>
            <a:ext cx="3581280" cy="2438280"/>
          </a:xfrm>
          <a:prstGeom prst="cloudCallout">
            <a:avLst>
              <a:gd name="adj1" fmla="val -85773"/>
              <a:gd name="adj2" fmla="val 590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st of this tal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eralization to insensitiv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751-8F11-47EF-B1EE-99B072BB4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ensitiv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our setting...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um queries are 1-sensitive (k=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D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1 entry changes 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y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553080" y="41911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2200" y="6172200"/>
            <a:ext cx="291924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769800" y="4113000"/>
            <a:ext cx="1892520" cy="1791360"/>
            <a:chOff x="6769800" y="4113000"/>
            <a:chExt cx="1892520" cy="1791360"/>
          </a:xfrm>
        </p:grpSpPr>
        <p:cxnSp>
          <p:nvCxnSpPr>
            <p:cNvPr id="591" name=""/>
            <p:cNvCxnSpPr>
              <a:stCxn id="592" idx="3"/>
              <a:endCxn id="593" idx="1"/>
            </p:cNvCxnSpPr>
            <p:nvPr/>
          </p:nvCxnSpPr>
          <p:spPr>
            <a:xfrm>
              <a:off x="7218000" y="5049000"/>
              <a:ext cx="521640" cy="25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4" name=""/>
            <p:cNvCxnSpPr>
              <a:stCxn id="595" idx="5"/>
              <a:endCxn id="592" idx="1"/>
            </p:cNvCxnSpPr>
            <p:nvPr/>
          </p:nvCxnSpPr>
          <p:spPr>
            <a:xfrm>
              <a:off x="7083360" y="4600440"/>
              <a:ext cx="135360" cy="36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6" name=""/>
            <p:cNvCxnSpPr>
              <a:stCxn id="597" idx="4"/>
              <a:endCxn id="595" idx="1"/>
            </p:cNvCxnSpPr>
            <p:nvPr/>
          </p:nvCxnSpPr>
          <p:spPr>
            <a:xfrm flipH="1">
              <a:off x="7009560" y="4504320"/>
              <a:ext cx="454320" cy="1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8" name=""/>
            <p:cNvCxnSpPr>
              <a:stCxn id="599" idx="6"/>
              <a:endCxn id="595" idx="4"/>
            </p:cNvCxnSpPr>
            <p:nvPr/>
          </p:nvCxnSpPr>
          <p:spPr>
            <a:xfrm flipH="1">
              <a:off x="7045920" y="4113000"/>
              <a:ext cx="5220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0" name=""/>
            <p:cNvCxnSpPr>
              <a:stCxn id="592" idx="2"/>
              <a:endCxn id="601" idx="5"/>
            </p:cNvCxnSpPr>
            <p:nvPr/>
          </p:nvCxnSpPr>
          <p:spPr>
            <a:xfrm flipH="1">
              <a:off x="6769800" y="5009040"/>
              <a:ext cx="433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2" name=""/>
            <p:cNvCxnSpPr>
              <a:stCxn id="593" idx="7"/>
              <a:endCxn id="603" idx="1"/>
            </p:cNvCxnSpPr>
            <p:nvPr/>
          </p:nvCxnSpPr>
          <p:spPr>
            <a:xfrm flipH="1">
              <a:off x="7217640" y="5304960"/>
              <a:ext cx="59580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4" name=""/>
            <p:cNvCxnSpPr>
              <a:stCxn id="605" idx="2"/>
              <a:endCxn id="593" idx="7"/>
            </p:cNvCxnSpPr>
            <p:nvPr/>
          </p:nvCxnSpPr>
          <p:spPr>
            <a:xfrm flipH="1" flipV="1">
              <a:off x="7813080" y="5304600"/>
              <a:ext cx="120240" cy="60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6" name=""/>
            <p:cNvCxnSpPr>
              <a:stCxn id="607" idx="6"/>
              <a:endCxn id="608" idx="2"/>
            </p:cNvCxnSpPr>
            <p:nvPr/>
          </p:nvCxnSpPr>
          <p:spPr>
            <a:xfrm flipH="1" flipV="1">
              <a:off x="8349120" y="5344560"/>
              <a:ext cx="313560" cy="33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9" name=""/>
            <p:cNvCxnSpPr>
              <a:stCxn id="593" idx="2"/>
              <a:endCxn id="608" idx="3"/>
            </p:cNvCxnSpPr>
            <p:nvPr/>
          </p:nvCxnSpPr>
          <p:spPr>
            <a:xfrm>
              <a:off x="7724160" y="5345280"/>
              <a:ext cx="641520" cy="4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0" name=""/>
            <p:cNvCxnSpPr>
              <a:stCxn id="611" idx="0"/>
              <a:endCxn id="593" idx="4"/>
            </p:cNvCxnSpPr>
            <p:nvPr/>
          </p:nvCxnSpPr>
          <p:spPr>
            <a:xfrm flipH="1">
              <a:off x="7776000" y="4729320"/>
              <a:ext cx="209520" cy="67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612" name=""/>
          <p:cNvCxnSpPr>
            <a:stCxn id="592" idx="5"/>
            <a:endCxn id="593" idx="1"/>
          </p:cNvCxnSpPr>
          <p:nvPr/>
        </p:nvCxnSpPr>
        <p:spPr>
          <a:xfrm>
            <a:off x="7315200" y="5030640"/>
            <a:ext cx="450000" cy="255960"/>
          </a:xfrm>
          <a:prstGeom prst="straightConnector1">
            <a:avLst/>
          </a:prstGeom>
          <a:ln w="38160">
            <a:solidFill>
              <a:srgbClr val="cc0000"/>
            </a:solidFill>
            <a:miter/>
          </a:ln>
        </p:spPr>
      </p:cxnSp>
      <p:sp>
        <p:nvSpPr>
          <p:cNvPr id="613" name=""/>
          <p:cNvSpPr/>
          <p:nvPr/>
        </p:nvSpPr>
        <p:spPr>
          <a:xfrm>
            <a:off x="7392960" y="47084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" y="1371600"/>
            <a:ext cx="8686800" cy="16002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0" y="48006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1814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1371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function f: D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6"/>
                <a:ea typeface="Arial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sen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in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ll pai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ich differ i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 row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|| f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– f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) ||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705720" y="4038480"/>
            <a:ext cx="1980360" cy="1904400"/>
            <a:chOff x="6705720" y="4038480"/>
            <a:chExt cx="1980360" cy="1904400"/>
          </a:xfrm>
        </p:grpSpPr>
        <p:sp>
          <p:nvSpPr>
            <p:cNvPr id="592" name=""/>
            <p:cNvSpPr/>
            <p:nvPr/>
          </p:nvSpPr>
          <p:spPr>
            <a:xfrm>
              <a:off x="7226640" y="4934520"/>
              <a:ext cx="104400" cy="11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35080" y="4374360"/>
              <a:ext cx="10440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47920" y="5270760"/>
              <a:ext cx="104400" cy="11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56720" y="4710600"/>
              <a:ext cx="10368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73600" y="5270760"/>
              <a:ext cx="104400" cy="11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6720" y="5830920"/>
              <a:ext cx="103680" cy="11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582400" y="5607000"/>
              <a:ext cx="103680" cy="11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26640" y="5830920"/>
              <a:ext cx="104400" cy="11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705720" y="5046840"/>
              <a:ext cx="10368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18200" y="4486320"/>
              <a:ext cx="103680" cy="11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18200" y="4038480"/>
              <a:ext cx="10368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9" name=""/>
          <p:cNvCxnSpPr>
            <a:stCxn id="601" idx="7"/>
            <a:endCxn id="615" idx="3"/>
          </p:cNvCxnSpPr>
          <p:nvPr/>
        </p:nvCxnSpPr>
        <p:spPr>
          <a:xfrm flipV="1">
            <a:off x="6794640" y="4896720"/>
            <a:ext cx="7992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01" idx="5"/>
            <a:endCxn id="616" idx="1"/>
          </p:cNvCxnSpPr>
          <p:nvPr/>
        </p:nvCxnSpPr>
        <p:spPr>
          <a:xfrm>
            <a:off x="6794640" y="5143320"/>
            <a:ext cx="155880" cy="5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53E-7BFA-42A5-B5BC-53A41C71DD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ensitivity and Privac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1371600"/>
            <a:ext cx="8686800" cy="16002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1371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function f: D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6"/>
                <a:ea typeface="Arial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sen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in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ll pai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ich differ i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 row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|| f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– f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) ||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0880" y="31240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062000" y="3276720"/>
            <a:ext cx="1139760" cy="1536480"/>
            <a:chOff x="1062000" y="3276720"/>
            <a:chExt cx="1139760" cy="1536480"/>
          </a:xfrm>
        </p:grpSpPr>
        <p:sp>
          <p:nvSpPr>
            <p:cNvPr id="626" name=""/>
            <p:cNvSpPr/>
            <p:nvPr/>
          </p:nvSpPr>
          <p:spPr>
            <a:xfrm>
              <a:off x="1062000" y="451584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2000" y="426780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62000" y="402012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62000" y="377208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2000" y="352440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62000" y="3276720"/>
              <a:ext cx="1139760" cy="297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2498760" y="3524400"/>
            <a:ext cx="693720" cy="7934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588840" y="4038480"/>
            <a:ext cx="258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1640" y="394020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29" idx="6"/>
            <a:endCxn id="632" idx="1"/>
          </p:cNvCxnSpPr>
          <p:nvPr/>
        </p:nvCxnSpPr>
        <p:spPr>
          <a:xfrm>
            <a:off x="2201400" y="39207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2276280" y="47131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8840" y="4516560"/>
            <a:ext cx="19692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6440" y="4516560"/>
            <a:ext cx="19836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95480" y="4516560"/>
            <a:ext cx="198720" cy="19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0" name=""/>
          <p:cNvCxnSpPr>
            <a:stCxn id="638" idx="0"/>
            <a:endCxn id="632" idx="2"/>
          </p:cNvCxnSpPr>
          <p:nvPr/>
        </p:nvCxnSpPr>
        <p:spPr>
          <a:xfrm flipV="1">
            <a:off x="2846160" y="4317480"/>
            <a:ext cx="108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3581280" y="46432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12600" y="3581280"/>
            <a:ext cx="2494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ease tell 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59160" y="4191120"/>
            <a:ext cx="334656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059520" y="4419720"/>
            <a:ext cx="3192480" cy="2209680"/>
            <a:chOff x="6059520" y="4419720"/>
            <a:chExt cx="3192480" cy="2209680"/>
          </a:xfrm>
        </p:grpSpPr>
        <p:sp>
          <p:nvSpPr>
            <p:cNvPr id="645" name=""/>
            <p:cNvSpPr/>
            <p:nvPr/>
          </p:nvSpPr>
          <p:spPr>
            <a:xfrm flipV="1">
              <a:off x="7278480" y="44197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08800" y="5764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6059520" y="5105520"/>
              <a:ext cx="22096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5342040" y="4724280"/>
            <a:ext cx="3954240" cy="104004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 rot="19527600">
            <a:off x="5494320" y="5295600"/>
            <a:ext cx="2193840" cy="8110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 rot="19536000">
            <a:off x="7430760" y="4424400"/>
            <a:ext cx="915840" cy="8110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324480" y="2209680"/>
            <a:ext cx="2273400" cy="2514600"/>
          </a:xfrm>
          <a:custGeom>
            <a:avLst/>
            <a:gdLst/>
            <a:ahLst/>
            <a:rect l="l" t="t" r="r" b="b"/>
            <a:pathLst>
              <a:path w="1432" h="1824">
                <a:moveTo>
                  <a:pt x="720" y="0"/>
                </a:moveTo>
                <a:cubicBezTo>
                  <a:pt x="1036" y="96"/>
                  <a:pt x="1352" y="192"/>
                  <a:pt x="1392" y="432"/>
                </a:cubicBezTo>
                <a:cubicBezTo>
                  <a:pt x="1432" y="672"/>
                  <a:pt x="1096" y="1320"/>
                  <a:pt x="960" y="1440"/>
                </a:cubicBezTo>
                <a:cubicBezTo>
                  <a:pt x="824" y="1560"/>
                  <a:pt x="736" y="1088"/>
                  <a:pt x="576" y="1152"/>
                </a:cubicBezTo>
                <a:cubicBezTo>
                  <a:pt x="416" y="1216"/>
                  <a:pt x="208" y="1520"/>
                  <a:pt x="0" y="18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304920"/>
            <a:ext cx="5105520" cy="1981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Property of Laplac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609480" y="5683320"/>
            <a:ext cx="4419720" cy="7509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4648320" y="1076400"/>
            <a:ext cx="3949560" cy="98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E6E-28B3-4694-8C67-DD939733C1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Why is this Indistinguishable?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" y="1371600"/>
            <a:ext cx="6095880" cy="1279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1371600"/>
            <a:ext cx="6095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unction f: 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bm6"/>
                <a:ea typeface="Arial"/>
              </a:rPr>
              <a:t>R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sen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in 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all pai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hich differ i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k row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| 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– 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) ||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95680" y="2743200"/>
            <a:ext cx="4648320" cy="157644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964040" y="2847960"/>
            <a:ext cx="782640" cy="1055520"/>
            <a:chOff x="4964040" y="2847960"/>
            <a:chExt cx="782640" cy="1055520"/>
          </a:xfrm>
        </p:grpSpPr>
        <p:sp>
          <p:nvSpPr>
            <p:cNvPr id="660" name=""/>
            <p:cNvSpPr/>
            <p:nvPr/>
          </p:nvSpPr>
          <p:spPr>
            <a:xfrm>
              <a:off x="4964040" y="369936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64040" y="352908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64040" y="335880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64040" y="318852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64040" y="301824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964040" y="284796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5950080" y="3017880"/>
            <a:ext cx="476280" cy="5461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699240" y="3371760"/>
            <a:ext cx="17733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615200" y="337824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>
            <a:stCxn id="663" idx="6"/>
            <a:endCxn id="666" idx="1"/>
          </p:cNvCxnSpPr>
          <p:nvPr/>
        </p:nvCxnSpPr>
        <p:spPr>
          <a:xfrm>
            <a:off x="5746320" y="3290400"/>
            <a:ext cx="20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0" name=""/>
          <p:cNvSpPr/>
          <p:nvPr/>
        </p:nvSpPr>
        <p:spPr>
          <a:xfrm>
            <a:off x="5736240" y="388296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18120" y="370044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9640" y="3700440"/>
            <a:ext cx="13680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22960" y="370044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2" idx="0"/>
            <a:endCxn id="666" idx="2"/>
          </p:cNvCxnSpPr>
          <p:nvPr/>
        </p:nvCxnSpPr>
        <p:spPr>
          <a:xfrm flipV="1">
            <a:off x="6189480" y="3563280"/>
            <a:ext cx="1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>
            <a:off x="6692760" y="3787920"/>
            <a:ext cx="177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62720" y="3025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ase tell 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77120" y="3416400"/>
            <a:ext cx="2666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+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…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059520" y="4419720"/>
            <a:ext cx="3192480" cy="2209680"/>
            <a:chOff x="6059520" y="4419720"/>
            <a:chExt cx="3192480" cy="2209680"/>
          </a:xfrm>
        </p:grpSpPr>
        <p:sp>
          <p:nvSpPr>
            <p:cNvPr id="679" name=""/>
            <p:cNvSpPr/>
            <p:nvPr/>
          </p:nvSpPr>
          <p:spPr>
            <a:xfrm flipV="1">
              <a:off x="7278480" y="44197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08800" y="5764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059520" y="5105520"/>
              <a:ext cx="22096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5342040" y="4724280"/>
            <a:ext cx="3954240" cy="104004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 rot="19527600">
            <a:off x="5494320" y="5295600"/>
            <a:ext cx="2193840" cy="8110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 rot="19536000">
            <a:off x="7430760" y="4424400"/>
            <a:ext cx="915840" cy="81108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6180120" y="4079520"/>
            <a:ext cx="3954600" cy="2420640"/>
            <a:chOff x="6180120" y="4079520"/>
            <a:chExt cx="3954600" cy="2420640"/>
          </a:xfrm>
        </p:grpSpPr>
        <p:pic>
          <p:nvPicPr>
            <p:cNvPr id="686" name="" descr=""/>
            <p:cNvPicPr/>
            <p:nvPr/>
          </p:nvPicPr>
          <p:blipFill>
            <a:blip r:embed="rId4"/>
            <a:stretch/>
          </p:blipFill>
          <p:spPr>
            <a:xfrm>
              <a:off x="6180120" y="4566960"/>
              <a:ext cx="395460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5"/>
            <a:stretch/>
          </p:blipFill>
          <p:spPr>
            <a:xfrm rot="19527600">
              <a:off x="6332760" y="5138280"/>
              <a:ext cx="2193840" cy="8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6"/>
            <a:stretch/>
          </p:blipFill>
          <p:spPr>
            <a:xfrm rot="19536000">
              <a:off x="8269200" y="4267080"/>
              <a:ext cx="915840" cy="81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ffer in k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transcripts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7"/>
          <a:stretch/>
        </p:blipFill>
        <p:spPr>
          <a:xfrm>
            <a:off x="349200" y="4365720"/>
            <a:ext cx="544032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C59-8F0D-40C4-A0BA-226E503AE5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6059520" y="4419720"/>
            <a:ext cx="3192480" cy="2209680"/>
            <a:chOff x="6059520" y="4419720"/>
            <a:chExt cx="3192480" cy="2209680"/>
          </a:xfrm>
        </p:grpSpPr>
        <p:sp>
          <p:nvSpPr>
            <p:cNvPr id="692" name=""/>
            <p:cNvSpPr/>
            <p:nvPr/>
          </p:nvSpPr>
          <p:spPr>
            <a:xfrm flipV="1">
              <a:off x="7278480" y="44197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08800" y="5764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059520" y="5105520"/>
              <a:ext cx="22096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5342040" y="4724280"/>
            <a:ext cx="3954240" cy="104004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 rot="19527600">
            <a:off x="5494320" y="5295600"/>
            <a:ext cx="2193840" cy="8110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 rot="19536000">
            <a:off x="7430760" y="4424400"/>
            <a:ext cx="915840" cy="811080"/>
          </a:xfrm>
          <a:prstGeom prst="rect">
            <a:avLst/>
          </a:prstGeom>
          <a:ln w="0">
            <a:noFill/>
          </a:ln>
        </p:spPr>
      </p:pic>
      <p:grpSp>
        <p:nvGrpSpPr>
          <p:cNvPr id="698" name=""/>
          <p:cNvGrpSpPr/>
          <p:nvPr/>
        </p:nvGrpSpPr>
        <p:grpSpPr>
          <a:xfrm>
            <a:off x="6180120" y="4079520"/>
            <a:ext cx="3954600" cy="2420640"/>
            <a:chOff x="6180120" y="4079520"/>
            <a:chExt cx="3954600" cy="2420640"/>
          </a:xfrm>
        </p:grpSpPr>
        <p:pic>
          <p:nvPicPr>
            <p:cNvPr id="699" name="" descr=""/>
            <p:cNvPicPr/>
            <p:nvPr/>
          </p:nvPicPr>
          <p:blipFill>
            <a:blip r:embed="rId4"/>
            <a:stretch/>
          </p:blipFill>
          <p:spPr>
            <a:xfrm>
              <a:off x="6180120" y="4566960"/>
              <a:ext cx="395460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5"/>
            <a:stretch/>
          </p:blipFill>
          <p:spPr>
            <a:xfrm rot="19527600">
              <a:off x="6332760" y="5138280"/>
              <a:ext cx="2193840" cy="8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6"/>
            <a:stretch/>
          </p:blipFill>
          <p:spPr>
            <a:xfrm rot="19536000">
              <a:off x="8269200" y="4267080"/>
              <a:ext cx="915840" cy="81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in Statemen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371600"/>
            <a:ext cx="6095880" cy="1279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1371600"/>
            <a:ext cx="6095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unction f: 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bm6"/>
                <a:ea typeface="Arial"/>
              </a:rPr>
              <a:t>R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sen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in 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all pai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hich differ i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k row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| 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– f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) ||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95680" y="2743200"/>
            <a:ext cx="4648320" cy="157644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964040" y="2847960"/>
            <a:ext cx="782640" cy="1055520"/>
            <a:chOff x="4964040" y="2847960"/>
            <a:chExt cx="782640" cy="1055520"/>
          </a:xfrm>
        </p:grpSpPr>
        <p:sp>
          <p:nvSpPr>
            <p:cNvPr id="707" name=""/>
            <p:cNvSpPr/>
            <p:nvPr/>
          </p:nvSpPr>
          <p:spPr>
            <a:xfrm>
              <a:off x="4964040" y="369936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64040" y="352908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64040" y="335880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64040" y="318852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64040" y="301824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64040" y="2847960"/>
              <a:ext cx="782640" cy="20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950080" y="3017880"/>
            <a:ext cx="476280" cy="5461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699240" y="3371760"/>
            <a:ext cx="17733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15200" y="337824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>
            <a:stCxn id="710" idx="6"/>
            <a:endCxn id="713" idx="1"/>
          </p:cNvCxnSpPr>
          <p:nvPr/>
        </p:nvCxnSpPr>
        <p:spPr>
          <a:xfrm>
            <a:off x="5746320" y="3290400"/>
            <a:ext cx="20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5736240" y="388296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18120" y="370044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19640" y="3700440"/>
            <a:ext cx="13680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22960" y="370044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19" idx="0"/>
            <a:endCxn id="713" idx="2"/>
          </p:cNvCxnSpPr>
          <p:nvPr/>
        </p:nvCxnSpPr>
        <p:spPr>
          <a:xfrm flipV="1">
            <a:off x="6189480" y="3563280"/>
            <a:ext cx="1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"/>
          <p:cNvSpPr/>
          <p:nvPr/>
        </p:nvSpPr>
        <p:spPr>
          <a:xfrm>
            <a:off x="6692760" y="3787920"/>
            <a:ext cx="177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462720" y="3025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ase tell 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77120" y="3416400"/>
            <a:ext cx="2666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+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…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00600" y="4267080"/>
            <a:ext cx="43434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2280" y="2895480"/>
            <a:ext cx="48006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280" y="4191120"/>
            <a:ext cx="4800600" cy="533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A is limited to T qu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“K”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distinguishab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lace noise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ussian noise 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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(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idea works with other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ming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real space [0,1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we do wi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n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E3D-7E9B-4FDF-908A-E4737F2AFE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33520" y="5105520"/>
            <a:ext cx="8153280" cy="1218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4572000"/>
            <a:ext cx="6248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is talk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igorous Definitions of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distinguishability: simple definition, easy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plied “semantic” definitions: posterior vs prior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08080"/>
                </a:solidFill>
                <a:latin typeface="Monotype Corsiva"/>
              </a:rPr>
              <a:t>K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” framework for output pertu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uition: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sensitive </a:t>
            </a:r>
            <a:r>
              <a:rPr b="0" lang="en-US" sz="2400" spc="-1" strike="noStrike">
                <a:solidFill>
                  <a:srgbClr val="80808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safe to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with insensitive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s (contingency tab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D, EM model-fitting,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1600200"/>
            <a:ext cx="75960" cy="15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80520" y="1371600"/>
            <a:ext cx="228600" cy="3808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3429000"/>
            <a:ext cx="75960" cy="15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80520" y="3200400"/>
            <a:ext cx="228600" cy="3808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622-1427-4B6F-BB45-FF7521EEB8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istograms / Contingency Tabl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tition of D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s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ector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r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#{ i :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=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one valu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vector by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(indep. of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’m, add Laplacian with std. dev. 2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preser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“structural zeros”, sum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809880" y="3567240"/>
          <a:ext cx="2286000" cy="12333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740" name=""/>
          <p:cNvSpPr/>
          <p:nvPr/>
        </p:nvSpPr>
        <p:spPr>
          <a:xfrm>
            <a:off x="4692600" y="3179880"/>
            <a:ext cx="1209600" cy="386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.S. f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2860560" y="3925080"/>
            <a:ext cx="14439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ave B.S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6629400" y="3587760"/>
          <a:ext cx="2286000" cy="1212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743" name=""/>
          <p:cNvSpPr/>
          <p:nvPr/>
        </p:nvSpPr>
        <p:spPr>
          <a:xfrm>
            <a:off x="6138360" y="39798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086600" y="12193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22096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086600" y="1828800"/>
            <a:ext cx="304920" cy="380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91520" y="1371600"/>
            <a:ext cx="304560" cy="8380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96080" y="1676520"/>
            <a:ext cx="304920" cy="53316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001000" y="2133720"/>
            <a:ext cx="304920" cy="7596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086600" y="1828800"/>
            <a:ext cx="304920" cy="76320"/>
          </a:xfrm>
          <a:prstGeom prst="rec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001000" y="2057400"/>
            <a:ext cx="304920" cy="76320"/>
          </a:xfrm>
          <a:prstGeom prst="rec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86600" y="1828800"/>
            <a:ext cx="304920" cy="380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91520" y="3962520"/>
            <a:ext cx="76176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6629400" y="3581280"/>
          <a:ext cx="2286000" cy="1212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55" name=""/>
          <p:cNvSpPr/>
          <p:nvPr/>
        </p:nvSpPr>
        <p:spPr>
          <a:xfrm>
            <a:off x="7086600" y="1752480"/>
            <a:ext cx="304920" cy="76320"/>
          </a:xfrm>
          <a:prstGeom prst="rec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F73-3B82-4A7E-A949-49B7ED5A7A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 rot="5400000">
            <a:off x="7924320" y="3276360"/>
            <a:ext cx="3808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91320" y="3581280"/>
            <a:ext cx="3808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ingular Value Decomposi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where D= {v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6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||v|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input as matrix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in many data-mining task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6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400" spc="-1" strike="noStrike">
                <a:solidFill>
                  <a:srgbClr val="000000"/>
                </a:solidFill>
                <a:latin typeface="msbm6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’m, add Laplacian noise with std. dev. 2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entry in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releas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2743200"/>
            <a:ext cx="1143000" cy="2438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6200000">
            <a:off x="5524560" y="2895480"/>
            <a:ext cx="1143000" cy="2438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-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C66-2CC5-4B91-90F5-361EC9843F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81080"/>
            <a:ext cx="81532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47920"/>
            <a:ext cx="5105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is talk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Definitions of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distinguish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ple definition, easy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 “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man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definitions: posterior vs prior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ramework for output pertu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nsitiv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fe to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with insensitive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s, clustering, model-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278-24BE-493C-BE51-7506667C62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Fitting Parametric Model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where D= {v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6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||v|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aussian 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E parameters are not very sensi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n, then K =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/n  -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msy10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mixture of Gaussi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tic if data is not a good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pecific algorithms (EM) [BDM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“quality” of fit; release if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34320" y="51814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010280" y="4840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29400" y="50688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781680" y="54500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52214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0" y="5029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96240" y="54100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62920" y="52578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10440" y="51055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86760" y="47642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753240" y="48006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54100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62118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63644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134120" y="61358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981840" y="60199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1680" y="60595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05720" y="62118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0" y="64008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353440" y="5029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582040" y="51055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429760" y="51814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534520" y="48769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734320" y="49928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353440" y="48006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686800" y="48006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534520" y="47242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610480" y="52578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810640" y="51451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81880" y="60199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582040" y="60595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458200" y="62118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277120" y="6172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53440" y="63644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763120" y="613584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658360" y="62881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534520" y="64404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201160" y="5983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238880" y="62881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77120" y="4572000"/>
            <a:ext cx="1218960" cy="2057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077320" y="4572000"/>
            <a:ext cx="990360" cy="2057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6200000">
            <a:off x="7124400" y="3771360"/>
            <a:ext cx="1219320" cy="2666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6200000">
            <a:off x="7276680" y="5142960"/>
            <a:ext cx="838440" cy="228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DD9-20E5-46A4-8A6B-1C950F9CE3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6.35838E-007 L 0.06927 -0.04139 E">
                                      <p:cBhvr>
                                        <p:cTn id="74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2775E-006 L -0.03593 0.01942 E">
                                      <p:cBhvr>
                                        <p:cTn id="743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3237E-006 L 0.06927 -0.05248 E">
                                      <p:cBhvr>
                                        <p:cTn id="745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6994E-006 L 0.10261 0.03052 E">
                                      <p:cBhvr>
                                        <p:cTn id="747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75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28600" y="2057400"/>
            <a:ext cx="868680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M Algorithm for Mixtures of Gaussian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int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msbm6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didat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…,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…,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=1,…,k, compu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ost likely unde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=1,…,k: retur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best fit for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05320" y="5065560"/>
            <a:ext cx="104760" cy="11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47242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352680" y="53341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52680" y="51055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429000" y="49132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67240" y="5294160"/>
            <a:ext cx="104760" cy="11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3920" y="51418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81440" y="49896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57760" y="46483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24240" y="46846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09880" y="5294160"/>
            <a:ext cx="104760" cy="11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05320" y="60958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29160" y="62485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705120" y="60199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52840" y="59040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352680" y="59436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76720" y="60958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429000" y="62848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48320" y="5065560"/>
            <a:ext cx="104760" cy="11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876920" y="51418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724280" y="5218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29040" y="49132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29200" y="5029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48320" y="4836960"/>
            <a:ext cx="104760" cy="11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81680" y="4836960"/>
            <a:ext cx="104760" cy="11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829040" y="47610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05360" y="5294160"/>
            <a:ext cx="104760" cy="11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05520" y="51814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95680" y="56754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695840" y="57150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0" y="58672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90920" y="58276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67240" y="60199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76920" y="579132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772160" y="59436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48320" y="60958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314960" y="563868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9880" y="6172200"/>
            <a:ext cx="104760" cy="11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5105520"/>
            <a:ext cx="104760" cy="112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933720" y="6440400"/>
            <a:ext cx="104760" cy="112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495680" y="6440400"/>
            <a:ext cx="104760" cy="112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95680" y="5105520"/>
            <a:ext cx="104760" cy="112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267080" y="4495680"/>
            <a:ext cx="152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19520" y="54864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4267080" y="57913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4419360" y="57913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4FF-4BC6-4E0B-83AE-3F4C78D88D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69942E-006 L -0.05573 -0.01919 E">
                                      <p:cBhvr>
                                        <p:cTn id="783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69942E-006 L 0.03594 -0.0081 E">
                                      <p:cBhvr>
                                        <p:cTn id="785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83237E-006 L 0.01094 -0.06937 E">
                                      <p:cBhvr>
                                        <p:cTn id="787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83237E-006 L -0.03593 -0.04717 E">
                                      <p:cBhvr>
                                        <p:cTn id="789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28600" y="2057400"/>
            <a:ext cx="868680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pproach 1: Making EM Insensitiv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int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msbm6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didat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…,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…,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=1,…,k, compu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ost likely unde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=1,…,k: retur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best fit for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#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#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stogram: noise 2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ise 2M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imilarly fo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top i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too smal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: multiply noise by # it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1DF-48F4-49FB-87BB-A60FF431D1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pproach 2: Testing for Safe Data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: if data is truly from mixture, then parameters should not be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ppropriate notion of “safet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random sampl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yields the “same” parameters with probability at lea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” here means “matching distanc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is safe, then parameters can be released with nois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each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safety must be done approximately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F02-964B-4572-ADF7-C1CFAF8999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ther Things One Can Do “Insensitively”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coefficients (see SVD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to a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ypes of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which can be estimated from a random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“graph” properties: degree distribution, minimum weight spanning tree, chromatic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081-09DD-47D9-8630-EEAE7D40F6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is talk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Definitions of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stinguishability: simple definition, easy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 “semantic” definitions: posterior vs prior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ramework for output pertu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nsitiv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fe to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with insensitive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s (contingency tab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D, model-fitting,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04920" y="1600200"/>
            <a:ext cx="75960" cy="15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380520" y="1371600"/>
            <a:ext cx="228600" cy="3808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920" y="3429000"/>
            <a:ext cx="75960" cy="15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80520" y="3200400"/>
            <a:ext cx="228600" cy="3808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4920" y="4724280"/>
            <a:ext cx="75960" cy="152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80520" y="4495680"/>
            <a:ext cx="228600" cy="3812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BCB-5C77-47C4-8072-6F06082E95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 can we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at do data users wan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putational assumptions in this set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arayanan and Shmatikov for different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dvantage of entropy in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imple results on auditing with exact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imitations of this notion of confidentia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67A-2D3E-4751-A96E-C3AC06671D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tune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nthia and Frank are coming up 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ADB-DDB0-4595-AFC6-62D8D6D3E8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ings I won’t talk abou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data: how to define “individual’s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d response and its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izing about ba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get rid of predicates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B6D-7C13-4C14-9000-4E2202AA21C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368280"/>
            <a:ext cx="7315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 on privacy definitio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1483920"/>
            <a:ext cx="754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 apply both in the interactive and in the non-interactive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is concerned with a very strong `informed’ adversa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ccess to all data except y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cy: adversary cannot learn more about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veat: Too strong in some cas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finition ignores specific semantics of (individual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ameter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an be made exponentially small, but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not negligi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non-negligible error essential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andomness essentia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, against the informed adver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depend on assumptions about the underlying distribution/adversary knowled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A06-8910-4045-AB73-DF545D9D050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68120" y="1219320"/>
            <a:ext cx="8681760" cy="3463920"/>
          </a:xfrm>
          <a:custGeom>
            <a:avLst/>
            <a:gdLst/>
            <a:ahLst/>
            <a:rect l="l" t="t" r="r" b="b"/>
            <a:pathLst>
              <a:path w="5469" h="2182">
                <a:moveTo>
                  <a:pt x="688" y="15"/>
                </a:moveTo>
                <a:cubicBezTo>
                  <a:pt x="614" y="39"/>
                  <a:pt x="541" y="63"/>
                  <a:pt x="467" y="88"/>
                </a:cubicBezTo>
                <a:cubicBezTo>
                  <a:pt x="437" y="97"/>
                  <a:pt x="409" y="107"/>
                  <a:pt x="378" y="118"/>
                </a:cubicBezTo>
                <a:cubicBezTo>
                  <a:pt x="363" y="122"/>
                  <a:pt x="335" y="133"/>
                  <a:pt x="335" y="133"/>
                </a:cubicBezTo>
                <a:cubicBezTo>
                  <a:pt x="270" y="227"/>
                  <a:pt x="289" y="317"/>
                  <a:pt x="319" y="427"/>
                </a:cubicBezTo>
                <a:cubicBezTo>
                  <a:pt x="330" y="467"/>
                  <a:pt x="350" y="545"/>
                  <a:pt x="350" y="545"/>
                </a:cubicBezTo>
                <a:cubicBezTo>
                  <a:pt x="329" y="673"/>
                  <a:pt x="323" y="680"/>
                  <a:pt x="202" y="722"/>
                </a:cubicBezTo>
                <a:cubicBezTo>
                  <a:pt x="175" y="749"/>
                  <a:pt x="138" y="767"/>
                  <a:pt x="113" y="796"/>
                </a:cubicBezTo>
                <a:cubicBezTo>
                  <a:pt x="81" y="830"/>
                  <a:pt x="0" y="870"/>
                  <a:pt x="10" y="929"/>
                </a:cubicBezTo>
                <a:cubicBezTo>
                  <a:pt x="31" y="1031"/>
                  <a:pt x="63" y="1116"/>
                  <a:pt x="172" y="1149"/>
                </a:cubicBezTo>
                <a:cubicBezTo>
                  <a:pt x="233" y="1190"/>
                  <a:pt x="298" y="1190"/>
                  <a:pt x="363" y="1223"/>
                </a:cubicBezTo>
                <a:cubicBezTo>
                  <a:pt x="467" y="1276"/>
                  <a:pt x="353" y="1235"/>
                  <a:pt x="452" y="1267"/>
                </a:cubicBezTo>
                <a:cubicBezTo>
                  <a:pt x="495" y="1311"/>
                  <a:pt x="522" y="1341"/>
                  <a:pt x="540" y="1400"/>
                </a:cubicBezTo>
                <a:cubicBezTo>
                  <a:pt x="523" y="1542"/>
                  <a:pt x="514" y="1555"/>
                  <a:pt x="540" y="1724"/>
                </a:cubicBezTo>
                <a:cubicBezTo>
                  <a:pt x="546" y="1768"/>
                  <a:pt x="569" y="1835"/>
                  <a:pt x="614" y="1857"/>
                </a:cubicBezTo>
                <a:cubicBezTo>
                  <a:pt x="637" y="1868"/>
                  <a:pt x="664" y="1868"/>
                  <a:pt x="688" y="1872"/>
                </a:cubicBezTo>
                <a:cubicBezTo>
                  <a:pt x="831" y="1857"/>
                  <a:pt x="898" y="1852"/>
                  <a:pt x="1026" y="1787"/>
                </a:cubicBezTo>
                <a:cubicBezTo>
                  <a:pt x="1099" y="1677"/>
                  <a:pt x="1255" y="1715"/>
                  <a:pt x="1396" y="1724"/>
                </a:cubicBezTo>
                <a:cubicBezTo>
                  <a:pt x="1452" y="1744"/>
                  <a:pt x="1493" y="1753"/>
                  <a:pt x="1542" y="1783"/>
                </a:cubicBezTo>
                <a:cubicBezTo>
                  <a:pt x="1672" y="1860"/>
                  <a:pt x="1586" y="1826"/>
                  <a:pt x="1675" y="1857"/>
                </a:cubicBezTo>
                <a:cubicBezTo>
                  <a:pt x="1761" y="1983"/>
                  <a:pt x="1834" y="2063"/>
                  <a:pt x="1985" y="2093"/>
                </a:cubicBezTo>
                <a:cubicBezTo>
                  <a:pt x="2044" y="2088"/>
                  <a:pt x="2102" y="2085"/>
                  <a:pt x="2161" y="2078"/>
                </a:cubicBezTo>
                <a:cubicBezTo>
                  <a:pt x="2208" y="2072"/>
                  <a:pt x="2250" y="2049"/>
                  <a:pt x="2294" y="2034"/>
                </a:cubicBezTo>
                <a:cubicBezTo>
                  <a:pt x="2371" y="2008"/>
                  <a:pt x="2451" y="1995"/>
                  <a:pt x="2530" y="1975"/>
                </a:cubicBezTo>
                <a:cubicBezTo>
                  <a:pt x="2595" y="1959"/>
                  <a:pt x="2656" y="1933"/>
                  <a:pt x="2721" y="1916"/>
                </a:cubicBezTo>
                <a:cubicBezTo>
                  <a:pt x="3008" y="1925"/>
                  <a:pt x="3105" y="1897"/>
                  <a:pt x="3312" y="1960"/>
                </a:cubicBezTo>
                <a:cubicBezTo>
                  <a:pt x="3454" y="2058"/>
                  <a:pt x="3585" y="2102"/>
                  <a:pt x="3754" y="2123"/>
                </a:cubicBezTo>
                <a:cubicBezTo>
                  <a:pt x="3837" y="2149"/>
                  <a:pt x="3919" y="2164"/>
                  <a:pt x="4005" y="2182"/>
                </a:cubicBezTo>
                <a:cubicBezTo>
                  <a:pt x="4467" y="2149"/>
                  <a:pt x="4290" y="2173"/>
                  <a:pt x="4535" y="2137"/>
                </a:cubicBezTo>
                <a:cubicBezTo>
                  <a:pt x="4654" y="2099"/>
                  <a:pt x="4765" y="2076"/>
                  <a:pt x="4888" y="2049"/>
                </a:cubicBezTo>
                <a:cubicBezTo>
                  <a:pt x="4938" y="2039"/>
                  <a:pt x="4974" y="2007"/>
                  <a:pt x="5021" y="1990"/>
                </a:cubicBezTo>
                <a:cubicBezTo>
                  <a:pt x="5129" y="1885"/>
                  <a:pt x="5256" y="1848"/>
                  <a:pt x="5404" y="1827"/>
                </a:cubicBezTo>
                <a:cubicBezTo>
                  <a:pt x="5449" y="1697"/>
                  <a:pt x="5469" y="1788"/>
                  <a:pt x="5419" y="1592"/>
                </a:cubicBezTo>
                <a:cubicBezTo>
                  <a:pt x="5409" y="1552"/>
                  <a:pt x="5389" y="1474"/>
                  <a:pt x="5389" y="1474"/>
                </a:cubicBezTo>
                <a:cubicBezTo>
                  <a:pt x="5401" y="1358"/>
                  <a:pt x="5427" y="1250"/>
                  <a:pt x="5448" y="1136"/>
                </a:cubicBezTo>
                <a:cubicBezTo>
                  <a:pt x="5433" y="959"/>
                  <a:pt x="5436" y="713"/>
                  <a:pt x="5330" y="560"/>
                </a:cubicBezTo>
                <a:cubicBezTo>
                  <a:pt x="5295" y="447"/>
                  <a:pt x="5295" y="332"/>
                  <a:pt x="5199" y="251"/>
                </a:cubicBezTo>
                <a:cubicBezTo>
                  <a:pt x="5149" y="210"/>
                  <a:pt x="5080" y="196"/>
                  <a:pt x="5021" y="177"/>
                </a:cubicBezTo>
                <a:cubicBezTo>
                  <a:pt x="4992" y="166"/>
                  <a:pt x="4933" y="146"/>
                  <a:pt x="4933" y="146"/>
                </a:cubicBezTo>
                <a:cubicBezTo>
                  <a:pt x="4806" y="189"/>
                  <a:pt x="4667" y="205"/>
                  <a:pt x="4535" y="220"/>
                </a:cubicBezTo>
                <a:cubicBezTo>
                  <a:pt x="4285" y="210"/>
                  <a:pt x="4288" y="219"/>
                  <a:pt x="4107" y="192"/>
                </a:cubicBezTo>
                <a:cubicBezTo>
                  <a:pt x="3940" y="168"/>
                  <a:pt x="3792" y="130"/>
                  <a:pt x="3621" y="118"/>
                </a:cubicBezTo>
                <a:cubicBezTo>
                  <a:pt x="3426" y="85"/>
                  <a:pt x="3244" y="33"/>
                  <a:pt x="3046" y="15"/>
                </a:cubicBezTo>
                <a:cubicBezTo>
                  <a:pt x="2791" y="21"/>
                  <a:pt x="2534" y="15"/>
                  <a:pt x="2279" y="44"/>
                </a:cubicBezTo>
                <a:cubicBezTo>
                  <a:pt x="2154" y="57"/>
                  <a:pt x="2034" y="107"/>
                  <a:pt x="1911" y="133"/>
                </a:cubicBezTo>
                <a:cubicBezTo>
                  <a:pt x="1764" y="128"/>
                  <a:pt x="1616" y="127"/>
                  <a:pt x="1470" y="118"/>
                </a:cubicBezTo>
                <a:cubicBezTo>
                  <a:pt x="1419" y="115"/>
                  <a:pt x="1322" y="74"/>
                  <a:pt x="1322" y="74"/>
                </a:cubicBezTo>
                <a:cubicBezTo>
                  <a:pt x="1240" y="17"/>
                  <a:pt x="1154" y="12"/>
                  <a:pt x="1056" y="0"/>
                </a:cubicBezTo>
                <a:cubicBezTo>
                  <a:pt x="952" y="36"/>
                  <a:pt x="1082" y="0"/>
                  <a:pt x="954" y="0"/>
                </a:cubicBezTo>
                <a:cubicBezTo>
                  <a:pt x="846" y="0"/>
                  <a:pt x="723" y="17"/>
                  <a:pt x="614" y="29"/>
                </a:cubicBezTo>
                <a:cubicBezTo>
                  <a:pt x="599" y="79"/>
                  <a:pt x="600" y="59"/>
                  <a:pt x="600" y="88"/>
                </a:cubicBezTo>
                <a:lnTo>
                  <a:pt x="550" y="12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e Setting: Output Perturb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st of n rows, each from domain D (say 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Perturb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ubmits qu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s back perturbed versio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1447920"/>
            <a:ext cx="1752840" cy="2361960"/>
            <a:chOff x="838080" y="1447920"/>
            <a:chExt cx="1752840" cy="2361960"/>
          </a:xfrm>
        </p:grpSpPr>
        <p:sp>
          <p:nvSpPr>
            <p:cNvPr id="62" name=""/>
            <p:cNvSpPr/>
            <p:nvPr/>
          </p:nvSpPr>
          <p:spPr>
            <a:xfrm>
              <a:off x="838080" y="3352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8080" y="2971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2590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2209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1828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1447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400800" y="160020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government, research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rketers,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648320" y="1627200"/>
            <a:ext cx="1644480" cy="520560"/>
            <a:chOff x="4648320" y="1627200"/>
            <a:chExt cx="1644480" cy="520560"/>
          </a:xfrm>
        </p:grpSpPr>
        <p:sp>
          <p:nvSpPr>
            <p:cNvPr id="70" name=""/>
            <p:cNvSpPr/>
            <p:nvPr/>
          </p:nvSpPr>
          <p:spPr>
            <a:xfrm flipH="1">
              <a:off x="4648320" y="2133720"/>
              <a:ext cx="1644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99160" y="162720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unction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03440" y="2387520"/>
            <a:ext cx="2417760" cy="579600"/>
            <a:chOff x="4303440" y="2387520"/>
            <a:chExt cx="2417760" cy="579600"/>
          </a:xfrm>
        </p:grpSpPr>
        <p:sp>
          <p:nvSpPr>
            <p:cNvPr id="73" name=""/>
            <p:cNvSpPr/>
            <p:nvPr/>
          </p:nvSpPr>
          <p:spPr>
            <a:xfrm>
              <a:off x="4680000" y="2895480"/>
              <a:ext cx="1644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03440" y="2387520"/>
              <a:ext cx="241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(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,…,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 + noi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29680" y="231624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90920" y="1828800"/>
            <a:ext cx="1737360" cy="2151360"/>
            <a:chOff x="2590920" y="1828800"/>
            <a:chExt cx="1737360" cy="2151360"/>
          </a:xfrm>
        </p:grpSpPr>
        <p:sp>
          <p:nvSpPr>
            <p:cNvPr id="77" name=""/>
            <p:cNvSpPr/>
            <p:nvPr/>
          </p:nvSpPr>
          <p:spPr>
            <a:xfrm>
              <a:off x="3048120" y="1828800"/>
              <a:ext cx="1066680" cy="121932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65" idx="6"/>
              <a:endCxn id="77" idx="1"/>
            </p:cNvCxnSpPr>
            <p:nvPr/>
          </p:nvCxnSpPr>
          <p:spPr>
            <a:xfrm>
              <a:off x="2590920" y="24379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2898000" y="358128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33526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9000" y="33526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57600" y="33526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1" idx="0"/>
              <a:endCxn id="77" idx="2"/>
            </p:cNvCxnSpPr>
            <p:nvPr/>
          </p:nvCxnSpPr>
          <p:spPr>
            <a:xfrm flipV="1">
              <a:off x="3580920" y="304776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4" name=""/>
          <p:cNvSpPr/>
          <p:nvPr/>
        </p:nvSpPr>
        <p:spPr>
          <a:xfrm>
            <a:off x="4724280" y="3429000"/>
            <a:ext cx="4191120" cy="2057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n can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functions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kind of perturb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ay depend on # of qu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1"/>
            <a:endCxn id="77" idx="3"/>
          </p:cNvCxnSpPr>
          <p:nvPr/>
        </p:nvCxnSpPr>
        <p:spPr>
          <a:xfrm rot="10800000">
            <a:off x="4114080" y="2437560"/>
            <a:ext cx="610200" cy="20203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642-DB10-4DB5-AF95-3C14669FC6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search Questio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general is the need for non-negligible err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example #1: learn parity of independen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ex #2: learn 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/2 |. Because of symmetry, each individual bit remains rand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model-fitting procedures make sense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“anonymity-style” definitions fit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C36-1790-44D0-89C2-4A73780ACE09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52280" y="1219320"/>
            <a:ext cx="8665920" cy="346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e Setting… More Abstractl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st of n rows, each from domain D (say 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labeled: 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“about” pers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’s data” is well-defined (not always so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asy to specify: e.g. “let me learn mean value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specif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38080" y="1447920"/>
            <a:ext cx="1752840" cy="2361960"/>
            <a:chOff x="838080" y="1447920"/>
            <a:chExt cx="1752840" cy="2361960"/>
          </a:xfrm>
        </p:grpSpPr>
        <p:sp>
          <p:nvSpPr>
            <p:cNvPr id="90" name=""/>
            <p:cNvSpPr/>
            <p:nvPr/>
          </p:nvSpPr>
          <p:spPr>
            <a:xfrm>
              <a:off x="838080" y="3352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2971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590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2209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18288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44792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1828800"/>
            <a:ext cx="1066680" cy="12193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60020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government, research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rketers,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23920" y="1447920"/>
            <a:ext cx="1644840" cy="459720"/>
            <a:chOff x="4723920" y="1447920"/>
            <a:chExt cx="1644840" cy="459720"/>
          </a:xfrm>
        </p:grpSpPr>
        <p:sp>
          <p:nvSpPr>
            <p:cNvPr id="99" name=""/>
            <p:cNvSpPr/>
            <p:nvPr/>
          </p:nvSpPr>
          <p:spPr>
            <a:xfrm flipH="1">
              <a:off x="4723920" y="1905120"/>
              <a:ext cx="16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14479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query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1905120"/>
            <a:ext cx="1644840" cy="459720"/>
            <a:chOff x="4724280" y="1905120"/>
            <a:chExt cx="1644840" cy="459720"/>
          </a:xfrm>
        </p:grpSpPr>
        <p:sp>
          <p:nvSpPr>
            <p:cNvPr id="102" name=""/>
            <p:cNvSpPr/>
            <p:nvPr/>
          </p:nvSpPr>
          <p:spPr>
            <a:xfrm>
              <a:off x="4724280" y="2286000"/>
              <a:ext cx="16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6480" y="190512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nsw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23920" y="2743200"/>
            <a:ext cx="1614600" cy="459720"/>
            <a:chOff x="4723920" y="2743200"/>
            <a:chExt cx="1614600" cy="459720"/>
          </a:xfrm>
        </p:grpSpPr>
        <p:sp>
          <p:nvSpPr>
            <p:cNvPr id="105" name=""/>
            <p:cNvSpPr/>
            <p:nvPr/>
          </p:nvSpPr>
          <p:spPr>
            <a:xfrm flipH="1">
              <a:off x="4723920" y="3200400"/>
              <a:ext cx="16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4040" y="274320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query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38680" y="3200400"/>
            <a:ext cx="1644480" cy="459720"/>
            <a:chOff x="4738680" y="3200400"/>
            <a:chExt cx="1644480" cy="459720"/>
          </a:xfrm>
        </p:grpSpPr>
        <p:sp>
          <p:nvSpPr>
            <p:cNvPr id="108" name=""/>
            <p:cNvSpPr/>
            <p:nvPr/>
          </p:nvSpPr>
          <p:spPr>
            <a:xfrm>
              <a:off x="4738680" y="3581280"/>
              <a:ext cx="16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64040" y="320040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nswer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511600" y="23623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7280" y="1752480"/>
            <a:ext cx="1239840" cy="129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24520" y="30844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dversar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9680" y="231624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93" idx="6"/>
            <a:endCxn id="96" idx="1"/>
          </p:cNvCxnSpPr>
          <p:nvPr/>
        </p:nvCxnSpPr>
        <p:spPr>
          <a:xfrm>
            <a:off x="2590920" y="2437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2898000" y="358128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352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352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0"/>
            <a:endCxn id="96" idx="2"/>
          </p:cNvCxnSpPr>
          <p:nvPr/>
        </p:nvCxnSpPr>
        <p:spPr>
          <a:xfrm flipV="1">
            <a:off x="3580920" y="30477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324480" y="4648320"/>
            <a:ext cx="3124440" cy="1981080"/>
          </a:xfrm>
          <a:prstGeom prst="cloudCallout">
            <a:avLst>
              <a:gd name="adj1" fmla="val -47611"/>
              <a:gd name="adj2" fmla="val -8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What does A learn from 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589040"/>
            <a:ext cx="121932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886200"/>
            <a:ext cx="2743200" cy="1371600"/>
          </a:xfrm>
          <a:prstGeom prst="cloudCallout">
            <a:avLst>
              <a:gd name="adj1" fmla="val -66203"/>
              <a:gd name="adj2" fmla="val -4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Need not be inte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828-F57E-42E6-93D3-0BAF9CD274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52280" y="1219320"/>
            <a:ext cx="8665920" cy="346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0666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e Setting… More Abstractl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240" y="1442880"/>
            <a:ext cx="8245800" cy="2532600"/>
            <a:chOff x="228240" y="1442880"/>
            <a:chExt cx="8245800" cy="2532600"/>
          </a:xfrm>
        </p:grpSpPr>
        <p:grpSp>
          <p:nvGrpSpPr>
            <p:cNvPr id="127" name=""/>
            <p:cNvGrpSpPr/>
            <p:nvPr/>
          </p:nvGrpSpPr>
          <p:grpSpPr>
            <a:xfrm>
              <a:off x="836640" y="1442880"/>
              <a:ext cx="1752120" cy="2361960"/>
              <a:chOff x="836640" y="1442880"/>
              <a:chExt cx="1752120" cy="2361960"/>
            </a:xfrm>
          </p:grpSpPr>
          <p:sp>
            <p:nvSpPr>
              <p:cNvPr id="128" name=""/>
              <p:cNvSpPr/>
              <p:nvPr/>
            </p:nvSpPr>
            <p:spPr>
              <a:xfrm>
                <a:off x="836640" y="3347640"/>
                <a:ext cx="1752120" cy="45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6640" y="2966760"/>
                <a:ext cx="1752120" cy="45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-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6640" y="2585880"/>
                <a:ext cx="1752120" cy="45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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36640" y="2204640"/>
                <a:ext cx="1752120" cy="45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6640" y="1823760"/>
                <a:ext cx="1752120" cy="45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6640" y="1442880"/>
                <a:ext cx="1752120" cy="45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046320" y="1823760"/>
              <a:ext cx="1066320" cy="121932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2840" y="2280960"/>
              <a:ext cx="164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722480" y="1900080"/>
              <a:ext cx="164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36880" y="3576600"/>
              <a:ext cx="16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722480" y="3195360"/>
              <a:ext cx="161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35840" y="1747800"/>
              <a:ext cx="1239480" cy="12952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2720" y="30794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dversary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240" y="2311200"/>
              <a:ext cx="54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31" idx="6"/>
              <a:endCxn id="134" idx="1"/>
            </p:cNvCxnSpPr>
            <p:nvPr/>
          </p:nvCxnSpPr>
          <p:spPr>
            <a:xfrm>
              <a:off x="2588760" y="2433240"/>
              <a:ext cx="45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2896200" y="357660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98600" y="334800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7200" y="334800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5800" y="334800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5" idx="0"/>
              <a:endCxn id="134" idx="2"/>
            </p:cNvCxnSpPr>
            <p:nvPr/>
          </p:nvCxnSpPr>
          <p:spPr>
            <a:xfrm flipV="1">
              <a:off x="3579480" y="30423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951440" y="1595160"/>
              <a:ext cx="1218600" cy="2286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rans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(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83440" y="1219320"/>
            <a:ext cx="5520960" cy="1773720"/>
            <a:chOff x="3583440" y="1219320"/>
            <a:chExt cx="5520960" cy="1773720"/>
          </a:xfrm>
        </p:grpSpPr>
        <p:grpSp>
          <p:nvGrpSpPr>
            <p:cNvPr id="150" name=""/>
            <p:cNvGrpSpPr/>
            <p:nvPr/>
          </p:nvGrpSpPr>
          <p:grpSpPr>
            <a:xfrm>
              <a:off x="4033440" y="1219320"/>
              <a:ext cx="1139760" cy="1536480"/>
              <a:chOff x="4033440" y="1219320"/>
              <a:chExt cx="1139760" cy="1536480"/>
            </a:xfrm>
          </p:grpSpPr>
          <p:sp>
            <p:nvSpPr>
              <p:cNvPr id="151" name=""/>
              <p:cNvSpPr/>
              <p:nvPr/>
            </p:nvSpPr>
            <p:spPr>
              <a:xfrm>
                <a:off x="4033440" y="245844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33440" y="22104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33440" y="19627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33440" y="171468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33440" y="14670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33440" y="12193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470560" y="1467000"/>
              <a:ext cx="693720" cy="79308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61000" y="176436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61000" y="151668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0000" y="2607120"/>
              <a:ext cx="106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561000" y="2359080"/>
              <a:ext cx="10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65080" y="1417680"/>
              <a:ext cx="806040" cy="8424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21720" y="2359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dversary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3440" y="188316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6"/>
              <a:endCxn id="157" idx="1"/>
            </p:cNvCxnSpPr>
            <p:nvPr/>
          </p:nvCxnSpPr>
          <p:spPr>
            <a:xfrm>
              <a:off x="5172840" y="1863360"/>
              <a:ext cx="29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5247360" y="265572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956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824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692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8" idx="0"/>
              <a:endCxn id="157" idx="2"/>
            </p:cNvCxnSpPr>
            <p:nvPr/>
          </p:nvCxnSpPr>
          <p:spPr>
            <a:xfrm flipV="1">
              <a:off x="5817240" y="2259360"/>
              <a:ext cx="1080" cy="19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6709680" y="1318320"/>
              <a:ext cx="792720" cy="148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ran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(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0A8-7A06-4F1E-AD79-BD4DC1BFE9BF}" type="slidenum">
              <a:t>6</a:t>
            </a:fld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9421E-006 L 0.21563 -0.09502 E">
                                      <p:cBhvr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7407E-006 L 0.21788 -0.08588 E">
                                      <p:cBhvr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52680" y="10666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e Setting… More Abstractl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u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msy10"/>
              </a:rPr>
              <a:t>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: adversary should learn “almost nothing” about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Attempt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random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” if  for 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utual information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 T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is small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nly good w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ery small (e.g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average case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ons not good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“large” (s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ule out learning a random row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583440" y="1219320"/>
            <a:ext cx="5520960" cy="1773720"/>
            <a:chOff x="3583440" y="1219320"/>
            <a:chExt cx="5520960" cy="1773720"/>
          </a:xfrm>
        </p:grpSpPr>
        <p:grpSp>
          <p:nvGrpSpPr>
            <p:cNvPr id="176" name=""/>
            <p:cNvGrpSpPr/>
            <p:nvPr/>
          </p:nvGrpSpPr>
          <p:grpSpPr>
            <a:xfrm>
              <a:off x="4033440" y="1219320"/>
              <a:ext cx="1139760" cy="1536480"/>
              <a:chOff x="4033440" y="1219320"/>
              <a:chExt cx="1139760" cy="1536480"/>
            </a:xfrm>
          </p:grpSpPr>
          <p:sp>
            <p:nvSpPr>
              <p:cNvPr id="177" name=""/>
              <p:cNvSpPr/>
              <p:nvPr/>
            </p:nvSpPr>
            <p:spPr>
              <a:xfrm>
                <a:off x="4033440" y="245844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3440" y="22104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33440" y="19627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33440" y="171468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33440" y="14670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033440" y="12193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470560" y="1467000"/>
              <a:ext cx="693720" cy="79308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61000" y="176436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561000" y="151668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70000" y="2607120"/>
              <a:ext cx="106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561000" y="2359080"/>
              <a:ext cx="10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5080" y="1417680"/>
              <a:ext cx="806040" cy="8424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21720" y="2359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dversary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3440" y="188316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0" idx="6"/>
              <a:endCxn id="183" idx="1"/>
            </p:cNvCxnSpPr>
            <p:nvPr/>
          </p:nvCxnSpPr>
          <p:spPr>
            <a:xfrm>
              <a:off x="5172840" y="1863360"/>
              <a:ext cx="29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" name=""/>
            <p:cNvSpPr/>
            <p:nvPr/>
          </p:nvSpPr>
          <p:spPr>
            <a:xfrm>
              <a:off x="5247360" y="265572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6956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824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692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4" idx="0"/>
              <a:endCxn id="183" idx="2"/>
            </p:cNvCxnSpPr>
            <p:nvPr/>
          </p:nvCxnSpPr>
          <p:spPr>
            <a:xfrm flipV="1">
              <a:off x="5817240" y="2259360"/>
              <a:ext cx="1080" cy="19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6709680" y="1318320"/>
              <a:ext cx="792720" cy="148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ran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(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B57-E353-473D-8199-2144F358EBFF}" type="slidenum">
              <a:t>7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352680" y="1066680"/>
            <a:ext cx="5740560" cy="2293920"/>
          </a:xfrm>
          <a:custGeom>
            <a:avLst/>
            <a:gdLst/>
            <a:ahLst/>
            <a:rect l="l" t="t" r="r" b="b"/>
            <a:pathLst>
              <a:path w="3616" h="1445">
                <a:moveTo>
                  <a:pt x="449" y="10"/>
                </a:moveTo>
                <a:cubicBezTo>
                  <a:pt x="400" y="26"/>
                  <a:pt x="352" y="42"/>
                  <a:pt x="303" y="58"/>
                </a:cubicBezTo>
                <a:cubicBezTo>
                  <a:pt x="283" y="64"/>
                  <a:pt x="264" y="71"/>
                  <a:pt x="244" y="78"/>
                </a:cubicBezTo>
                <a:cubicBezTo>
                  <a:pt x="234" y="81"/>
                  <a:pt x="215" y="88"/>
                  <a:pt x="215" y="88"/>
                </a:cubicBezTo>
                <a:cubicBezTo>
                  <a:pt x="172" y="150"/>
                  <a:pt x="185" y="210"/>
                  <a:pt x="205" y="283"/>
                </a:cubicBezTo>
                <a:cubicBezTo>
                  <a:pt x="212" y="309"/>
                  <a:pt x="225" y="361"/>
                  <a:pt x="225" y="361"/>
                </a:cubicBezTo>
                <a:cubicBezTo>
                  <a:pt x="211" y="446"/>
                  <a:pt x="207" y="450"/>
                  <a:pt x="127" y="478"/>
                </a:cubicBezTo>
                <a:cubicBezTo>
                  <a:pt x="109" y="496"/>
                  <a:pt x="85" y="508"/>
                  <a:pt x="68" y="527"/>
                </a:cubicBezTo>
                <a:cubicBezTo>
                  <a:pt x="52" y="545"/>
                  <a:pt x="46" y="569"/>
                  <a:pt x="29" y="586"/>
                </a:cubicBezTo>
                <a:cubicBezTo>
                  <a:pt x="19" y="596"/>
                  <a:pt x="10" y="605"/>
                  <a:pt x="0" y="615"/>
                </a:cubicBezTo>
                <a:cubicBezTo>
                  <a:pt x="14" y="683"/>
                  <a:pt x="35" y="739"/>
                  <a:pt x="107" y="761"/>
                </a:cubicBezTo>
                <a:cubicBezTo>
                  <a:pt x="148" y="788"/>
                  <a:pt x="191" y="788"/>
                  <a:pt x="234" y="810"/>
                </a:cubicBezTo>
                <a:cubicBezTo>
                  <a:pt x="303" y="845"/>
                  <a:pt x="227" y="818"/>
                  <a:pt x="293" y="839"/>
                </a:cubicBezTo>
                <a:cubicBezTo>
                  <a:pt x="321" y="868"/>
                  <a:pt x="339" y="888"/>
                  <a:pt x="351" y="927"/>
                </a:cubicBezTo>
                <a:cubicBezTo>
                  <a:pt x="340" y="1021"/>
                  <a:pt x="334" y="1030"/>
                  <a:pt x="351" y="1142"/>
                </a:cubicBezTo>
                <a:cubicBezTo>
                  <a:pt x="355" y="1171"/>
                  <a:pt x="370" y="1215"/>
                  <a:pt x="400" y="1230"/>
                </a:cubicBezTo>
                <a:cubicBezTo>
                  <a:pt x="415" y="1237"/>
                  <a:pt x="433" y="1237"/>
                  <a:pt x="449" y="1240"/>
                </a:cubicBezTo>
                <a:cubicBezTo>
                  <a:pt x="544" y="1230"/>
                  <a:pt x="628" y="1214"/>
                  <a:pt x="713" y="1171"/>
                </a:cubicBezTo>
                <a:cubicBezTo>
                  <a:pt x="761" y="1098"/>
                  <a:pt x="825" y="1136"/>
                  <a:pt x="918" y="1142"/>
                </a:cubicBezTo>
                <a:cubicBezTo>
                  <a:pt x="955" y="1155"/>
                  <a:pt x="982" y="1161"/>
                  <a:pt x="1015" y="1181"/>
                </a:cubicBezTo>
                <a:cubicBezTo>
                  <a:pt x="1101" y="1232"/>
                  <a:pt x="1044" y="1209"/>
                  <a:pt x="1103" y="1230"/>
                </a:cubicBezTo>
                <a:cubicBezTo>
                  <a:pt x="1160" y="1313"/>
                  <a:pt x="1208" y="1366"/>
                  <a:pt x="1308" y="1386"/>
                </a:cubicBezTo>
                <a:cubicBezTo>
                  <a:pt x="1347" y="1383"/>
                  <a:pt x="1386" y="1381"/>
                  <a:pt x="1425" y="1376"/>
                </a:cubicBezTo>
                <a:cubicBezTo>
                  <a:pt x="1456" y="1372"/>
                  <a:pt x="1484" y="1357"/>
                  <a:pt x="1513" y="1347"/>
                </a:cubicBezTo>
                <a:cubicBezTo>
                  <a:pt x="1564" y="1330"/>
                  <a:pt x="1617" y="1321"/>
                  <a:pt x="1669" y="1308"/>
                </a:cubicBezTo>
                <a:cubicBezTo>
                  <a:pt x="1712" y="1297"/>
                  <a:pt x="1753" y="1280"/>
                  <a:pt x="1796" y="1269"/>
                </a:cubicBezTo>
                <a:cubicBezTo>
                  <a:pt x="1986" y="1275"/>
                  <a:pt x="2050" y="1256"/>
                  <a:pt x="2187" y="1298"/>
                </a:cubicBezTo>
                <a:cubicBezTo>
                  <a:pt x="2281" y="1363"/>
                  <a:pt x="2368" y="1392"/>
                  <a:pt x="2480" y="1406"/>
                </a:cubicBezTo>
                <a:cubicBezTo>
                  <a:pt x="2535" y="1423"/>
                  <a:pt x="2589" y="1433"/>
                  <a:pt x="2646" y="1445"/>
                </a:cubicBezTo>
                <a:cubicBezTo>
                  <a:pt x="2952" y="1423"/>
                  <a:pt x="2835" y="1439"/>
                  <a:pt x="2997" y="1415"/>
                </a:cubicBezTo>
                <a:cubicBezTo>
                  <a:pt x="3076" y="1390"/>
                  <a:pt x="3150" y="1375"/>
                  <a:pt x="3231" y="1357"/>
                </a:cubicBezTo>
                <a:cubicBezTo>
                  <a:pt x="3264" y="1350"/>
                  <a:pt x="3288" y="1329"/>
                  <a:pt x="3319" y="1318"/>
                </a:cubicBezTo>
                <a:cubicBezTo>
                  <a:pt x="3391" y="1248"/>
                  <a:pt x="3475" y="1224"/>
                  <a:pt x="3573" y="1210"/>
                </a:cubicBezTo>
                <a:cubicBezTo>
                  <a:pt x="3603" y="1124"/>
                  <a:pt x="3616" y="1184"/>
                  <a:pt x="3583" y="1054"/>
                </a:cubicBezTo>
                <a:cubicBezTo>
                  <a:pt x="3576" y="1028"/>
                  <a:pt x="3563" y="976"/>
                  <a:pt x="3563" y="976"/>
                </a:cubicBezTo>
                <a:cubicBezTo>
                  <a:pt x="3571" y="899"/>
                  <a:pt x="3588" y="828"/>
                  <a:pt x="3602" y="752"/>
                </a:cubicBezTo>
                <a:cubicBezTo>
                  <a:pt x="3592" y="635"/>
                  <a:pt x="3594" y="472"/>
                  <a:pt x="3524" y="371"/>
                </a:cubicBezTo>
                <a:cubicBezTo>
                  <a:pt x="3501" y="296"/>
                  <a:pt x="3501" y="220"/>
                  <a:pt x="3437" y="166"/>
                </a:cubicBezTo>
                <a:cubicBezTo>
                  <a:pt x="3404" y="139"/>
                  <a:pt x="3358" y="130"/>
                  <a:pt x="3319" y="117"/>
                </a:cubicBezTo>
                <a:cubicBezTo>
                  <a:pt x="3300" y="110"/>
                  <a:pt x="3261" y="97"/>
                  <a:pt x="3261" y="97"/>
                </a:cubicBezTo>
                <a:cubicBezTo>
                  <a:pt x="3177" y="125"/>
                  <a:pt x="3085" y="136"/>
                  <a:pt x="2997" y="146"/>
                </a:cubicBezTo>
                <a:cubicBezTo>
                  <a:pt x="2832" y="139"/>
                  <a:pt x="2834" y="145"/>
                  <a:pt x="2714" y="127"/>
                </a:cubicBezTo>
                <a:cubicBezTo>
                  <a:pt x="2603" y="111"/>
                  <a:pt x="2505" y="86"/>
                  <a:pt x="2392" y="78"/>
                </a:cubicBezTo>
                <a:cubicBezTo>
                  <a:pt x="2263" y="56"/>
                  <a:pt x="2142" y="22"/>
                  <a:pt x="2011" y="10"/>
                </a:cubicBezTo>
                <a:cubicBezTo>
                  <a:pt x="1842" y="14"/>
                  <a:pt x="1672" y="10"/>
                  <a:pt x="1503" y="29"/>
                </a:cubicBezTo>
                <a:cubicBezTo>
                  <a:pt x="1420" y="38"/>
                  <a:pt x="1341" y="71"/>
                  <a:pt x="1259" y="88"/>
                </a:cubicBezTo>
                <a:cubicBezTo>
                  <a:pt x="1162" y="85"/>
                  <a:pt x="1064" y="84"/>
                  <a:pt x="967" y="78"/>
                </a:cubicBezTo>
                <a:cubicBezTo>
                  <a:pt x="933" y="76"/>
                  <a:pt x="869" y="49"/>
                  <a:pt x="869" y="49"/>
                </a:cubicBezTo>
                <a:cubicBezTo>
                  <a:pt x="815" y="11"/>
                  <a:pt x="758" y="8"/>
                  <a:pt x="693" y="0"/>
                </a:cubicBezTo>
                <a:cubicBezTo>
                  <a:pt x="624" y="24"/>
                  <a:pt x="710" y="0"/>
                  <a:pt x="625" y="0"/>
                </a:cubicBezTo>
                <a:cubicBezTo>
                  <a:pt x="554" y="0"/>
                  <a:pt x="472" y="11"/>
                  <a:pt x="400" y="19"/>
                </a:cubicBezTo>
                <a:cubicBezTo>
                  <a:pt x="390" y="52"/>
                  <a:pt x="391" y="39"/>
                  <a:pt x="391" y="58"/>
                </a:cubicBezTo>
                <a:lnTo>
                  <a:pt x="358" y="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pproach: Indistinguishabilit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in man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er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ired by cryptography [GM’8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s [DiN’03,EGS’03,DwN’04,BDMN’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ose database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(differing in few rows)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uld induce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distinguishable” distribution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on tran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dition impl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re on that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83440" y="1219320"/>
            <a:ext cx="5520960" cy="1773720"/>
            <a:chOff x="3583440" y="1219320"/>
            <a:chExt cx="5520960" cy="1773720"/>
          </a:xfrm>
        </p:grpSpPr>
        <p:grpSp>
          <p:nvGrpSpPr>
            <p:cNvPr id="202" name=""/>
            <p:cNvGrpSpPr/>
            <p:nvPr/>
          </p:nvGrpSpPr>
          <p:grpSpPr>
            <a:xfrm>
              <a:off x="4033440" y="1219320"/>
              <a:ext cx="1139760" cy="1536480"/>
              <a:chOff x="4033440" y="1219320"/>
              <a:chExt cx="1139760" cy="1536480"/>
            </a:xfrm>
          </p:grpSpPr>
          <p:sp>
            <p:nvSpPr>
              <p:cNvPr id="203" name=""/>
              <p:cNvSpPr/>
              <p:nvPr/>
            </p:nvSpPr>
            <p:spPr>
              <a:xfrm>
                <a:off x="4033440" y="245844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33440" y="22104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33440" y="19627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33440" y="171468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33440" y="146700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33440" y="1219320"/>
                <a:ext cx="1139760" cy="297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62627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 Narrow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5470560" y="1467000"/>
              <a:ext cx="693720" cy="793080"/>
            </a:xfrm>
            <a:prstGeom prst="flowChartProcess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61000" y="176436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561000" y="1516680"/>
              <a:ext cx="106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000" y="2607120"/>
              <a:ext cx="106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561000" y="2359080"/>
              <a:ext cx="10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65080" y="1417680"/>
              <a:ext cx="806040" cy="8424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21720" y="2359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dversary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83440" y="188316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206" idx="6"/>
              <a:endCxn id="209" idx="1"/>
            </p:cNvCxnSpPr>
            <p:nvPr/>
          </p:nvCxnSpPr>
          <p:spPr>
            <a:xfrm>
              <a:off x="5172840" y="1863360"/>
              <a:ext cx="29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5247360" y="265572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random co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956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1824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6920" y="2458440"/>
              <a:ext cx="198000" cy="19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20" idx="0"/>
              <a:endCxn id="209" idx="2"/>
            </p:cNvCxnSpPr>
            <p:nvPr/>
          </p:nvCxnSpPr>
          <p:spPr>
            <a:xfrm flipV="1">
              <a:off x="5817240" y="2259360"/>
              <a:ext cx="1080" cy="19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6709680" y="1318320"/>
              <a:ext cx="792720" cy="148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ran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(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7FC-264B-4AA4-944C-74D8A671C9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gets to interact with either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</a:rPr>
              <a:t>x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or </a:t>
            </a:r>
            <a:r>
              <a:rPr b="0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x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’…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90720" y="1600200"/>
            <a:ext cx="1752480" cy="2209320"/>
            <a:chOff x="990720" y="1600200"/>
            <a:chExt cx="1752480" cy="2209320"/>
          </a:xfrm>
        </p:grpSpPr>
        <p:sp>
          <p:nvSpPr>
            <p:cNvPr id="226" name=""/>
            <p:cNvSpPr/>
            <p:nvPr/>
          </p:nvSpPr>
          <p:spPr>
            <a:xfrm>
              <a:off x="990720" y="3381840"/>
              <a:ext cx="1752480" cy="427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90720" y="3025800"/>
              <a:ext cx="1752480" cy="427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n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90720" y="2669400"/>
              <a:ext cx="1752480" cy="427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2312640"/>
              <a:ext cx="1752480" cy="427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0720" y="1956240"/>
              <a:ext cx="1752480" cy="427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0720" y="1600200"/>
              <a:ext cx="1752480" cy="427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2627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 Narrow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1905120"/>
            <a:ext cx="1066680" cy="12189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4382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876920" y="205740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98760" y="16002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9120" y="205740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90960" y="3352680"/>
            <a:ext cx="1644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2971800"/>
            <a:ext cx="161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06320" y="2514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ry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16680" y="29718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swer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63880" y="251460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3352680"/>
            <a:ext cx="1239840" cy="129564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4080" y="468468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dversar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960" y="246852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1600200"/>
            <a:ext cx="121896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29" idx="6"/>
            <a:endCxn id="232" idx="1"/>
          </p:cNvCxnSpPr>
          <p:nvPr/>
        </p:nvCxnSpPr>
        <p:spPr>
          <a:xfrm flipV="1">
            <a:off x="2743200" y="2513880"/>
            <a:ext cx="45792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050280" y="365760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34290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34290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34290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0"/>
            <a:endCxn id="232" idx="2"/>
          </p:cNvCxnSpPr>
          <p:nvPr/>
        </p:nvCxnSpPr>
        <p:spPr>
          <a:xfrm flipV="1">
            <a:off x="3733560" y="31233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304920" y="403848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6049800"/>
            <a:ext cx="1752480" cy="4273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5692680"/>
            <a:ext cx="1752480" cy="426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b7b4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n-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5337000"/>
            <a:ext cx="1752480" cy="4273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4979880"/>
            <a:ext cx="1752480" cy="4273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4624560"/>
            <a:ext cx="1752480" cy="426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b7b4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4267080"/>
            <a:ext cx="1752480" cy="4273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2627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4572000"/>
            <a:ext cx="1066680" cy="12193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510552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876920" y="47242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98760" y="42670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9120" y="47242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90960" y="6019920"/>
            <a:ext cx="1644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876920" y="5638680"/>
            <a:ext cx="161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06320" y="5181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ry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16680" y="56386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swer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63880" y="518148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5600" y="51354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’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267080"/>
            <a:ext cx="1218960" cy="2057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56" idx="6"/>
            <a:endCxn id="259" idx="1"/>
          </p:cNvCxnSpPr>
          <p:nvPr/>
        </p:nvCxnSpPr>
        <p:spPr>
          <a:xfrm flipV="1">
            <a:off x="2743200" y="5181120"/>
            <a:ext cx="45792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3050280" y="632448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andom c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60958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60958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60958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4" idx="0"/>
            <a:endCxn id="259" idx="2"/>
          </p:cNvCxnSpPr>
          <p:nvPr/>
        </p:nvCxnSpPr>
        <p:spPr>
          <a:xfrm flipV="1">
            <a:off x="3733560" y="57909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33520" y="68580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905120"/>
            <a:ext cx="1523880" cy="1295280"/>
          </a:xfrm>
          <a:prstGeom prst="cloudCallout">
            <a:avLst>
              <a:gd name="adj1" fmla="val 7499"/>
              <a:gd name="adj2" fmla="val 6397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Which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5562720"/>
            <a:ext cx="35053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Differ in </a:t>
            </a:r>
            <a:r>
              <a:rPr b="0" lang="en-US" sz="36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 k r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1"/>
            <a:endCxn id="230" idx="6"/>
          </p:cNvCxnSpPr>
          <p:nvPr/>
        </p:nvCxnSpPr>
        <p:spPr>
          <a:xfrm flipH="1" flipV="1">
            <a:off x="2743200" y="2171160"/>
            <a:ext cx="2667240" cy="388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1"/>
            <a:endCxn id="227" idx="6"/>
          </p:cNvCxnSpPr>
          <p:nvPr/>
        </p:nvCxnSpPr>
        <p:spPr>
          <a:xfrm flipH="1" flipV="1">
            <a:off x="2743200" y="3239640"/>
            <a:ext cx="2667240" cy="281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9" idx="1"/>
            <a:endCxn id="257" idx="6"/>
          </p:cNvCxnSpPr>
          <p:nvPr/>
        </p:nvCxnSpPr>
        <p:spPr>
          <a:xfrm flipH="1" flipV="1">
            <a:off x="2743200" y="4838040"/>
            <a:ext cx="26672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9" idx="1"/>
            <a:endCxn id="254" idx="6"/>
          </p:cNvCxnSpPr>
          <p:nvPr/>
        </p:nvCxnSpPr>
        <p:spPr>
          <a:xfrm flipH="1" flipV="1">
            <a:off x="2743200" y="5906520"/>
            <a:ext cx="266724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5F2-7937-4744-AC8A-8586EFF7D8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23:47:22Z</dcterms:created>
  <dc:creator>Adam D. Smith</dc:creator>
  <dc:description/>
  <dc:language>en-US</dc:language>
  <cp:lastModifiedBy>Student Consultant</cp:lastModifiedBy>
  <cp:lastPrinted>2001-05-04T14:37:22Z</cp:lastPrinted>
  <dcterms:modified xsi:type="dcterms:W3CDTF">2005-07-12T13:39:20Z</dcterms:modified>
  <cp:revision>1686</cp:revision>
  <dc:subject/>
  <dc:title>Privacy and Sensitivity</dc:title>
</cp:coreProperties>
</file>